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E92A03-4A42-4DE6-84A0-7E2763350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FF9ABC-F73C-4DBC-A850-607D2904D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0B02DD-3EA9-47FC-AE74-0DD2FCBBF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DF86F8-112D-4332-89DE-189E97011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F714F-AF10-4FAA-96BF-C340F1493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12597-2532-4FF4-9763-FF5AFF1A1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49DAB-6D37-42D9-B84A-B636D84AA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9CCF5-DFC2-4E58-8594-8E32C7E8F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8DF22-F81E-432F-BA96-83BCDCBA8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69239-5C3F-4FC5-BBFF-BF5DC37DE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F23C6-719F-4E4C-BC20-BE144491D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87710F-CC58-4FA0-A45E-40CCD5754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75427-CA6A-4133-88B2-1E062EA79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406EB-5CF0-4197-8516-CD868DF7D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D40FD-CA81-4F83-9DD5-D0C4AB4C5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F9586-1112-491F-9528-33441823B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DB969-39AB-45BF-8F5F-D68620DF9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2B4ED3-C001-420B-96E9-146D9EC55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6D08B8-D889-4EE6-A9F4-2AA3F71DA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182E21-86AE-4ACF-90BC-07FE78E4F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42770E-17B2-42C7-BE4C-A60B9BAE6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22B482-8EE3-49E9-9E8A-A29C85390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7066FF-FCBC-4628-A6EE-7CA6B7B36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71A1B5-A9FF-4F44-99C0-5BFAF1B2B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7E111-556A-420F-946F-734534B5FDE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42617-B1C8-4852-8EAF-4EBDFBC15D6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stojsasa@yahoo.com" TargetMode="External"/><Relationship Id="rId2" Type="http://schemas.openxmlformats.org/officeDocument/2006/relationships/hyperlink" Target="mailto:stojsasa@yahoo.com" TargetMode="External"/><Relationship Id="rId3" Type="http://schemas.openxmlformats.org/officeDocument/2006/relationships/hyperlink" Target="mailto:tanja@etf.bg.ac.yu" TargetMode="External"/><Relationship Id="rId4" Type="http://schemas.openxmlformats.org/officeDocument/2006/relationships/hyperlink" Target="mailto:vm@etf.bg.ac.yu" TargetMode="External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3560" y="1940040"/>
            <a:ext cx="7236000" cy="17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MIKROKONTROLER 8051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6840" y="4952520"/>
            <a:ext cx="33526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utor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tojan</a:t>
            </a:r>
            <a:r>
              <a:rPr b="0" lang="sr-Latn-CS" sz="2000" spc="-1" strike="noStrike">
                <a:solidFill>
                  <a:srgbClr val="ffffff"/>
                </a:solidFill>
                <a:latin typeface="Garamond"/>
              </a:rPr>
              <a:t>ović Saša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stojsasa</a:t>
            </a:r>
            <a:r>
              <a:rPr b="0" lang="en-US" sz="2000" spc="-1" strike="noStrike" u="sng">
                <a:solidFill>
                  <a:srgbClr val="ffcc00"/>
                </a:solidFill>
                <a:uFillTx/>
                <a:latin typeface="Garamond"/>
                <a:hlinkClick r:id="rId2"/>
              </a:rPr>
              <a:t>@yahoo.com</a:t>
            </a:r>
            <a:r>
              <a:rPr b="0" lang="sr-Latn-CS" sz="2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0" y="4952880"/>
            <a:ext cx="3886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Mentori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Garamond"/>
              </a:rPr>
              <a:t>Ta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jana</a:t>
            </a:r>
            <a:r>
              <a:rPr b="0" lang="sr-Latn-CS" sz="2000" spc="-1" strike="noStrike">
                <a:solidFill>
                  <a:srgbClr val="ffffff"/>
                </a:solidFill>
                <a:latin typeface="Garamond"/>
              </a:rPr>
              <a:t> Petrović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000" spc="-1" strike="noStrike" u="sng">
                <a:solidFill>
                  <a:srgbClr val="ffcc00"/>
                </a:solidFill>
                <a:uFillTx/>
                <a:latin typeface="Garamond"/>
                <a:hlinkClick r:id="rId3"/>
              </a:rPr>
              <a:t>tanja@etf.bg.ac.y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Veljko Milutinovi</a:t>
            </a:r>
            <a:r>
              <a:rPr b="0" lang="sr-Latn-CS" sz="2000" spc="-1" strike="noStrike">
                <a:solidFill>
                  <a:srgbClr val="ffffff"/>
                </a:solidFill>
                <a:latin typeface="Garamond"/>
              </a:rPr>
              <a:t>ć </a:t>
            </a:r>
            <a:r>
              <a:rPr b="0" lang="sr-Latn-CS" sz="2000" spc="-1" strike="noStrike" u="sng">
                <a:solidFill>
                  <a:srgbClr val="ffcc00"/>
                </a:solidFill>
                <a:uFillTx/>
                <a:latin typeface="Garamond"/>
                <a:hlinkClick r:id="rId4"/>
              </a:rPr>
              <a:t>vm@etf.bg.ac.y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438280" y="6095880"/>
            <a:ext cx="335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http://galeb.etf.bg.ac.yu/~v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e5e5ff"/>
                </a:solidFill>
                <a:latin typeface="Garamond"/>
              </a:rPr>
              <a:t>Oscilator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Garamond"/>
              </a:rPr>
              <a:t>8051 ima integrisani oscilator koji ima dva izvedena pin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Garamond"/>
              </a:rPr>
              <a:t>Prva mogućnost je priključenje kristala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419720" y="3581280"/>
            <a:ext cx="3124080" cy="2413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81E150-06B1-42ED-9475-EF9A67D483F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e5e5ff"/>
                </a:solidFill>
                <a:latin typeface="Garamond"/>
              </a:rPr>
              <a:t>Oscilator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Garamond"/>
              </a:rPr>
              <a:t>Druga mogućnost je dovođenje takta sa nekog eksternog izvora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693960" y="2706840"/>
            <a:ext cx="3240360" cy="2665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80C401-C66D-4AD8-B66E-DE99E3C70A1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e5e5ff"/>
                </a:solidFill>
                <a:latin typeface="Garamond"/>
              </a:rPr>
              <a:t>Mašinski ciklu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Garamond"/>
              </a:rPr>
              <a:t>Još jedna jako bitna osobina 8051 je da su svi procesi u njemu sinhroni sa signalom tak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Garamond"/>
              </a:rPr>
              <a:t>MAŠINSKI CIKLUS je period od 12 taktov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Garamond"/>
              </a:rPr>
              <a:t>Mašinski ciklus je poravnat na silaznu ivicu tak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Garamond"/>
              </a:rPr>
              <a:t>Sastoji se od šest faz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Garamond"/>
              </a:rPr>
              <a:t>Svaka faza ima dvije podfaz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62720" indent="-2124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Garamond"/>
              </a:rPr>
              <a:t>Podfaza odgovara jednom taktu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E56DE8-06A7-4FB0-A394-D7C407C97FE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e5e5ff"/>
                </a:solidFill>
                <a:latin typeface="Garamond"/>
              </a:rPr>
              <a:t>Tem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Garamond"/>
              </a:rPr>
              <a:t>Uvo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Garamond"/>
              </a:rPr>
              <a:t>Osnovne karakteristik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Garamond"/>
              </a:rPr>
              <a:t>Oscilato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0000"/>
                </a:solidFill>
                <a:latin typeface="Garamond"/>
              </a:rPr>
              <a:t>Rese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Garamond"/>
              </a:rPr>
              <a:t>Memorij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Garamond"/>
              </a:rPr>
              <a:t>SFR - registr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Garamond"/>
              </a:rPr>
              <a:t>Tajm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Garamond"/>
              </a:rPr>
              <a:t>Serijski por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Garamond"/>
              </a:rPr>
              <a:t>Prekid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5FE097-1063-4EA4-91DE-D0203D5FCCE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e5e5ff"/>
                </a:solidFill>
                <a:latin typeface="Garamond"/>
              </a:rPr>
              <a:t>Reset pi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Garamond"/>
              </a:rPr>
              <a:t>Pin R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Garamond"/>
              </a:rPr>
              <a:t>Aktivan nivo je visoki niv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0" lang="sr-Latn-CS" sz="3200" spc="-1" strike="noStrike">
                <a:solidFill>
                  <a:srgbClr val="ffffff"/>
                </a:solidFill>
                <a:latin typeface="Garamond"/>
              </a:rPr>
              <a:t>rovjerava se u intervalima od jednog mašinska ciklus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Garamond"/>
              </a:rPr>
              <a:t>Potrebno je da stanje pina bude dva puta uzastopno na visokom nivou kako bi se to shvatilo kao rese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F4F3D7-2236-4081-B7EA-16BDBD526CC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e5e5ff"/>
                </a:solidFill>
                <a:latin typeface="Garamond"/>
              </a:rPr>
              <a:t>Stanje nakon reset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Garamond"/>
              </a:rPr>
              <a:t>PC je 0000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Garamond"/>
              </a:rPr>
              <a:t>Acc, B, PSW su 00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Garamond"/>
              </a:rPr>
              <a:t>SP je 07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Garamond"/>
              </a:rPr>
              <a:t>DPTR je 0000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Garamond"/>
              </a:rPr>
              <a:t>Portovi su FF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Garamond"/>
              </a:rPr>
              <a:t>Registri tajmera, SCON i SBUF su 00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41CFF6-B313-4C62-98A3-A755B10B4A8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e5e5ff"/>
                </a:solidFill>
                <a:latin typeface="Garamond"/>
              </a:rPr>
              <a:t>Reset kol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Garamond"/>
              </a:rPr>
              <a:t>Dva primjera reset kola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828800" y="3048120"/>
            <a:ext cx="5791320" cy="252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2D11FF-544B-4D8F-B8C5-4F779B5573C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e5e5ff"/>
                </a:solidFill>
                <a:latin typeface="Garamond"/>
              </a:rPr>
              <a:t>Tem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Garamond"/>
              </a:rPr>
              <a:t>Uvo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Garamond"/>
              </a:rPr>
              <a:t>Osnovne karakteristik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Garamond"/>
              </a:rPr>
              <a:t>Oscilato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Garamond"/>
              </a:rPr>
              <a:t>Rese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0000"/>
                </a:solidFill>
                <a:latin typeface="Garamond"/>
              </a:rPr>
              <a:t>Memorij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Garamond"/>
              </a:rPr>
              <a:t>SFR - registr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Garamond"/>
              </a:rPr>
              <a:t>Tajm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Garamond"/>
              </a:rPr>
              <a:t>Serijski por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Garamond"/>
              </a:rPr>
              <a:t>Prekid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855596-023D-40E5-8742-8B0A91432B8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e5e5ff"/>
                </a:solidFill>
                <a:latin typeface="Garamond"/>
              </a:rPr>
              <a:t>Programska memorij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Garamond"/>
              </a:rPr>
              <a:t>8051 ima 4KB integrisane ROM memorij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Garamond"/>
              </a:rPr>
              <a:t>Postoje i drugi mikrokontroleri iz ove familije koji imaju i veći kapacitet, kao i oni koji imaju EPROM ili FLAS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Garamond"/>
              </a:rPr>
              <a:t>Predviđen je i eksterni adresni prostor od 64 KB eksterne programske memorije za proširenj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7505AD-80A9-46C7-A666-A2B372C52A6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e5e5ff"/>
                </a:solidFill>
                <a:latin typeface="Garamond"/>
              </a:rPr>
              <a:t>RAM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Garamond"/>
              </a:rPr>
              <a:t>Osnovna verzija 8051 ima 128 B interne RA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Garamond"/>
              </a:rPr>
              <a:t>Najnižih 32 B podijeljena su u četiri banke registara sa po 8 registar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Garamond"/>
              </a:rPr>
              <a:t>Narednih 16 B je bit adresibilna memorij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Garamond"/>
              </a:rPr>
              <a:t>Ostatak memorije je opštenamjenska bajt adresibilna memorij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Garamond"/>
              </a:rPr>
              <a:t>Moguće je dodati do 64 KB eksterne RA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544CAE-ADE5-4F17-BF80-7DA0D109D81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e5e5ff"/>
                </a:solidFill>
                <a:latin typeface="Garamond"/>
              </a:rPr>
              <a:t>Tem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0000"/>
                </a:solidFill>
                <a:latin typeface="Garamond"/>
              </a:rPr>
              <a:t>Uvo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Garamond"/>
              </a:rPr>
              <a:t>Osnovne karakteristik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Garamond"/>
              </a:rPr>
              <a:t>Oscilato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Garamond"/>
              </a:rPr>
              <a:t>Rese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Garamond"/>
              </a:rPr>
              <a:t>Memorij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Garamond"/>
              </a:rPr>
              <a:t>SFR - registr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Garamond"/>
              </a:rPr>
              <a:t>Tajm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Garamond"/>
              </a:rPr>
              <a:t>Serijski por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Garamond"/>
              </a:rPr>
              <a:t>Prekid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483C46-C6DB-45C4-9E97-568716505A5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e5e5ff"/>
                </a:solidFill>
                <a:latin typeface="Garamond"/>
              </a:rPr>
              <a:t>SFR-Registri posebne namjen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K</a:t>
            </a:r>
            <a:r>
              <a:rPr b="0" lang="sr-Latn-CS" sz="3200" spc="-1" strike="noStrike">
                <a:solidFill>
                  <a:srgbClr val="ffffff"/>
                </a:solidFill>
                <a:latin typeface="Garamond"/>
              </a:rPr>
              <a:t>oriste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 </a:t>
            </a:r>
            <a:r>
              <a:rPr b="0" lang="sr-Latn-CS" sz="3200" spc="-1" strike="noStrike">
                <a:solidFill>
                  <a:srgbClr val="ffffff"/>
                </a:solidFill>
                <a:latin typeface="Garamond"/>
              </a:rPr>
              <a:t>za pristup periferijam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</a:t>
            </a:r>
            <a:r>
              <a:rPr b="0" lang="sr-Latn-CS" sz="3200" spc="-1" strike="noStrike">
                <a:solidFill>
                  <a:srgbClr val="ffffff"/>
                </a:solidFill>
                <a:latin typeface="Garamond"/>
              </a:rPr>
              <a:t>apirani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su </a:t>
            </a:r>
            <a:r>
              <a:rPr b="0" lang="sr-Latn-CS" sz="3200" spc="-1" strike="noStrike">
                <a:solidFill>
                  <a:srgbClr val="ffffff"/>
                </a:solidFill>
                <a:latin typeface="Garamond"/>
              </a:rPr>
              <a:t>u memorijski prostor odmah iza RAM-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Garamond"/>
              </a:rPr>
              <a:t>Zauzimaju narednih 128 B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Garamond"/>
              </a:rPr>
              <a:t>Neki su i bit adresibiln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Garamond"/>
              </a:rPr>
              <a:t>Pristupa im se direktn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0710CC-F975-4CBD-9869-4935AB9E9A9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e5e5ff"/>
                </a:solidFill>
                <a:latin typeface="Garamond"/>
              </a:rPr>
              <a:t>Interni adresni prostor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752480" y="1600200"/>
            <a:ext cx="5410440" cy="452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472046-9666-4340-BDFC-D08E227B40E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e5e5ff"/>
                </a:solidFill>
                <a:latin typeface="Garamond"/>
              </a:rPr>
              <a:t>\EA kontrolni signa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Garamond"/>
              </a:rPr>
              <a:t>Program je moguće smjestiti u internu ili eksternu memoriju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Garamond"/>
              </a:rPr>
              <a:t>Signal \EA je ulazn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Garamond"/>
              </a:rPr>
              <a:t>Određuje odakle se čita progra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Garamond"/>
              </a:rPr>
              <a:t>Pin \EA vezan na 0V znači da se radi o ekstremnom pristupu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Garamond"/>
              </a:rPr>
              <a:t>U suprotnom, program je u internoj memorij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Garamond"/>
              </a:rPr>
              <a:t>Ovaj pin takođe služi za dovođenje programskog napona u slučaju EPROM-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B0B432-9C74-4AF6-8C8E-F968F7D66F1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LE kontrolni signa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Garamond"/>
              </a:rPr>
              <a:t>Za proširenje memorije potrebno je 16 bita za adresu i još 8 bita za podatk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Garamond"/>
              </a:rPr>
              <a:t>Dio adresne magistrale i magistrala podataka se multipleksiraju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Garamond"/>
              </a:rPr>
              <a:t>Pad ALE sa visokog na niski nivo označava trenutak kada je potrebno zalečovati adresu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Garamond"/>
              </a:rPr>
              <a:t>Može da se koristi i kao CLK/6 osim za vrijeme MOVX kada izostaje pulsiranj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E55A3-9817-4F87-8423-893429DF8F4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e5e5ff"/>
                </a:solidFill>
                <a:latin typeface="Garamond"/>
              </a:rPr>
              <a:t>\PSEN kontrolni signa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Garamond"/>
              </a:rPr>
              <a:t>Eksterno je moguće dodati do 64 KB programske memorije i do 64 KB memorije podatak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Garamond"/>
              </a:rPr>
              <a:t>Ukupno 128 KB =&gt; potreban još jedan signa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Garamond"/>
              </a:rPr>
              <a:t>Pri dovlačenju instrukcije iz eksterne memorije signal \PSEN pada na niski niv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Garamond"/>
              </a:rPr>
              <a:t>\PSEN na visokom nivou podrazumjeva obraćanje memoriji podatak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9CF7D0-4C92-4C29-822F-D05C966B22C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e5e5ff"/>
                </a:solidFill>
                <a:latin typeface="Garamond"/>
              </a:rPr>
              <a:t>Portovi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Garamond"/>
              </a:rPr>
              <a:t>Port 0 se može koristiti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Garamond"/>
              </a:rPr>
              <a:t>kao U/I por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Garamond"/>
              </a:rPr>
              <a:t>kao dio adresne magistrale i magistrala podataka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Garamond"/>
              </a:rPr>
              <a:t>Za razliku od ostalih port 0 u U/I režimu radi kao open drai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Garamond"/>
              </a:rPr>
              <a:t>Port 1 se koristi kao U/I por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Garamond"/>
              </a:rPr>
              <a:t>Port 2 se može koristi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Garamond"/>
              </a:rPr>
              <a:t>kao U/I por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Garamond"/>
              </a:rPr>
              <a:t>kao viši bajt adresne magistral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Garamond"/>
              </a:rPr>
              <a:t>Port 3 se može koristi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Garamond"/>
              </a:rPr>
              <a:t>kao U/I por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Garamond"/>
              </a:rPr>
              <a:t>kao niz signala posebne namjen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CFE99F-8336-4C06-9B4B-C4923A0A6DF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e5e5ff"/>
                </a:solidFill>
                <a:latin typeface="Garamond"/>
              </a:rPr>
              <a:t>Eksterna memorij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523880" y="1676520"/>
            <a:ext cx="5715000" cy="458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0233E0-F81D-4637-A156-3D05F0549F7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e5e5ff"/>
                </a:solidFill>
                <a:latin typeface="Garamond"/>
              </a:rPr>
              <a:t>Eksterni pristup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990720" y="2060640"/>
            <a:ext cx="7086600" cy="3565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718EA8-B295-49AF-88BE-61E056D931B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e5e5ff"/>
                </a:solidFill>
                <a:latin typeface="Garamond"/>
              </a:rPr>
              <a:t>Eksterni pristup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Garamond"/>
              </a:rPr>
              <a:t>Na prethodnoj slici ciklus čitanj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Garamond"/>
              </a:rPr>
              <a:t>Pri upisu razlika je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Garamond"/>
              </a:rPr>
              <a:t>Na port 0 se izbacuju podac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Garamond"/>
              </a:rPr>
              <a:t>WR pada na nulu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D18A06-E0A6-4B31-B912-9CDCDA0B498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e5e5ff"/>
                </a:solidFill>
                <a:latin typeface="Garamond"/>
              </a:rPr>
              <a:t>Registarske bank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Garamond"/>
              </a:rPr>
              <a:t>Četiri registarske bank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Garamond"/>
              </a:rPr>
              <a:t>Svaka po 8 B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Garamond"/>
              </a:rPr>
              <a:t>Počinju od adrese 0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Garamond"/>
              </a:rPr>
              <a:t>Svaka banka se posmatra kao skup registara R0 do R7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Garamond"/>
              </a:rPr>
              <a:t>U određenom trenutku koristi se tačno jedna bank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Garamond"/>
              </a:rPr>
              <a:t>Koriste se kod često pozivanih procedura koje koriste te registre, kako bi se izbjeglo manipulisanje steko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02E75-78A7-4E81-9AB4-90B27CDADFE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e5e5ff"/>
                </a:solidFill>
                <a:latin typeface="Garamond"/>
              </a:rPr>
              <a:t>Uvod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Garamond"/>
              </a:rPr>
              <a:t>Dizajn prvog 8051 mikrokontrolera napravio je Int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</a:t>
            </a:r>
            <a:r>
              <a:rPr b="0" lang="sr-Latn-CS" sz="3200" spc="-1" strike="noStrike">
                <a:solidFill>
                  <a:srgbClr val="ffffff"/>
                </a:solidFill>
                <a:latin typeface="Garamond"/>
              </a:rPr>
              <a:t>anas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 </a:t>
            </a:r>
            <a:r>
              <a:rPr b="0" lang="sr-Latn-CS" sz="3200" spc="-1" strike="noStrike">
                <a:solidFill>
                  <a:srgbClr val="ffffff"/>
                </a:solidFill>
                <a:latin typeface="Garamond"/>
              </a:rPr>
              <a:t>može naći u katalozima mnogih svjetskih proizvođača mikrokontroler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Garamond"/>
              </a:rPr>
              <a:t>Susreće se u mnogim aplikacijama poput raznih urađaja u domaćinstvu i industriji, automobilima, robotima, automatima i mnogim drugim uređajima koji zahtjevaju upravljanj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B945A8-51BF-4990-8EF4-6B02616A5316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e5e5ff"/>
                </a:solidFill>
                <a:latin typeface="Garamond"/>
              </a:rPr>
              <a:t>Bit adresibilne lokacij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Garamond"/>
              </a:rPr>
              <a:t>Dio RAM-a koji je moguće adresirati i po bitovima i po bajtovim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Garamond"/>
              </a:rPr>
              <a:t>Velika ušteda memorijskog prostora obzirom na veličinu memorij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Garamond"/>
              </a:rPr>
              <a:t>Pojednostavljena i ubrzana manipulacija bitovim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F8312A-278C-4893-97D3-500FDCA0FA3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e5e5ff"/>
                </a:solidFill>
                <a:latin typeface="Garamond"/>
              </a:rPr>
              <a:t>Tem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Garamond"/>
              </a:rPr>
              <a:t>Uvo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Garamond"/>
              </a:rPr>
              <a:t>Osnovne karakteristik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Garamond"/>
              </a:rPr>
              <a:t>Oscilato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Garamond"/>
              </a:rPr>
              <a:t>Rese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Garamond"/>
              </a:rPr>
              <a:t>Memorij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0000"/>
                </a:solidFill>
                <a:latin typeface="Garamond"/>
              </a:rPr>
              <a:t>SFR - registr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Garamond"/>
              </a:rPr>
              <a:t>Tajm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Garamond"/>
              </a:rPr>
              <a:t>Serijski por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Garamond"/>
              </a:rPr>
              <a:t>Prekid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0B0EA4-51BE-4412-B6EB-748F53909FC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e5e5ff"/>
                </a:solidFill>
                <a:latin typeface="Garamond"/>
              </a:rPr>
              <a:t>Registri posebne namjen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Garamond"/>
              </a:rPr>
              <a:t>PSW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Garamond"/>
              </a:rPr>
              <a:t>Acc i B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Garamond"/>
              </a:rPr>
              <a:t>SP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Garamond"/>
              </a:rPr>
              <a:t>P0, P1, P2 i P3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Garamond"/>
              </a:rPr>
              <a:t>DPH i DP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Garamond"/>
              </a:rPr>
              <a:t>TCON, TMOD, TL0, TL1, TH0 i TH1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Garamond"/>
              </a:rPr>
              <a:t>SCON, SBUF i PC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Garamond"/>
              </a:rPr>
              <a:t>IE i IP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AACEAF-11EA-4B00-AFBC-2204C26BC9E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e5e5ff"/>
                </a:solidFill>
                <a:latin typeface="Garamond"/>
              </a:rPr>
              <a:t>PSW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Garamond"/>
              </a:rPr>
              <a:t>Program Status Wor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Garamond"/>
              </a:rPr>
              <a:t>Bit 7 - CY - preno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Garamond"/>
              </a:rPr>
              <a:t>Bit 6 - AC - pomoćni preno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Garamond"/>
              </a:rPr>
              <a:t>Bit 5 - F0 - fleg 0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Garamond"/>
              </a:rPr>
              <a:t>Bit 4 i 3 - RS1 i RS0 - selekcija reg. Bank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Garamond"/>
              </a:rPr>
              <a:t>Bit 2 - OV - prekoračenj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Garamond"/>
              </a:rPr>
              <a:t>Bit 0 - P - bit parnost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24A837-7897-4B54-9C43-53E4EBCEF37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e5e5ff"/>
                </a:solidFill>
                <a:latin typeface="Garamond"/>
              </a:rPr>
              <a:t>Acc i B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Garamond"/>
              </a:rPr>
              <a:t>Acc - akumulator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</a:t>
            </a:r>
            <a:r>
              <a:rPr b="0" lang="sr-Latn-CS" sz="3200" spc="-1" strike="noStrike">
                <a:solidFill>
                  <a:srgbClr val="ffffff"/>
                </a:solidFill>
                <a:latin typeface="Garamond"/>
              </a:rPr>
              <a:t> Koristi se u aritmetičkim operacijama kao prvi operan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Garamond"/>
              </a:rPr>
              <a:t>B je pomoćni registar koji se koristi pri množenju i dijeljenju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Garamond"/>
              </a:rPr>
              <a:t>Pri množenju u Acc i B su operandi i u njih se smješta rezultat (Acc - niži bajt i B viši bajt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Garamond"/>
              </a:rPr>
              <a:t>Pri djeljenju se Acc dijeli sa B i cio dio ostaje u Acc dok je ostatak u B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7C690B-158D-4FC6-8F43-95D98C9BAA53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e5e5ff"/>
                </a:solidFill>
                <a:latin typeface="Garamond"/>
              </a:rPr>
              <a:t>SP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Garamond"/>
              </a:rPr>
              <a:t>SP - stek point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Garamond"/>
              </a:rPr>
              <a:t>Sadrži adresu podatka na vrhu stek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Garamond"/>
              </a:rPr>
              <a:t>Raste ka višim lokacijam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Garamond"/>
              </a:rPr>
              <a:t>Ako je potrebno koričćenje registarskih banki 1, 2 i 3 potrebno ga je inicijalizovati novom vrijednošću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Garamond"/>
              </a:rPr>
              <a:t>Voditi računa o veličini raspoloživog prostora za stek pri pisanju kod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F8DA39-2F5A-4D46-96C9-534DCFB5E522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e5e5ff"/>
                </a:solidFill>
                <a:latin typeface="Garamond"/>
              </a:rPr>
              <a:t>Registri portov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Garamond"/>
              </a:rPr>
              <a:t>U slučaju da se portovi koriste kao U/I portovi, pristupa im se preko registara posebne namjene P0, P1, P2 i P3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Garamond"/>
              </a:rPr>
              <a:t>Svi portovi su bit adresebilni što se koristi kao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Garamond"/>
              </a:rPr>
              <a:t>PX.Y, gdje j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31480" indent="-22608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Garamond"/>
              </a:rPr>
              <a:t>X broj port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31480" indent="-22608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Garamond"/>
              </a:rPr>
              <a:t>Y broj pin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Garamond"/>
              </a:rPr>
              <a:t>Ili preko njihove adres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2A9406-6864-4309-B302-C5F98ADE4012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e5e5ff"/>
                </a:solidFill>
                <a:latin typeface="Garamond"/>
              </a:rPr>
              <a:t>DPH i DP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Garamond"/>
              </a:rPr>
              <a:t>Pokazivač za eksterni pristup memorij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Garamond"/>
              </a:rPr>
              <a:t>DPH viši i DPL niži baj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Garamond"/>
              </a:rPr>
              <a:t>Moguće ih je inkrementirati kao 16-bitni podatak, što traje dva mašinska ciklus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DB13A5-894D-46BC-B932-B196F6AC124D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e5e5ff"/>
                </a:solidFill>
                <a:latin typeface="Garamond"/>
              </a:rPr>
              <a:t>Ostali registri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Garamond"/>
              </a:rPr>
              <a:t>Ostali registri pripadaju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Garamond"/>
              </a:rPr>
              <a:t>TMOD, TCON, TL0, TH0, TL1 i TH1 tajmeru,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Garamond"/>
              </a:rPr>
              <a:t>SBUF i SCON serijskom portu,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Garamond"/>
              </a:rPr>
              <a:t>IE i IP interaptima i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Garamond"/>
              </a:rPr>
              <a:t>PCON kontroli napajanj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Garamond"/>
              </a:rPr>
              <a:t>Biće objašnjeni u daljem tekstu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5DB282-AA35-4B60-8DB4-1DFD95818260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e5e5ff"/>
                </a:solidFill>
                <a:latin typeface="Garamond"/>
              </a:rPr>
              <a:t>Tem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Garamond"/>
              </a:rPr>
              <a:t>Uvo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Garamond"/>
              </a:rPr>
              <a:t>Osnovne karakteristik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Garamond"/>
              </a:rPr>
              <a:t>Oscilato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Garamond"/>
              </a:rPr>
              <a:t>Rese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Garamond"/>
              </a:rPr>
              <a:t>Memorij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Garamond"/>
              </a:rPr>
              <a:t>SFR - registr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0000"/>
                </a:solidFill>
                <a:latin typeface="Garamond"/>
              </a:rPr>
              <a:t>Tajm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Garamond"/>
              </a:rPr>
              <a:t>Serijski por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Garamond"/>
              </a:rPr>
              <a:t>Prekid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47C8A3-2DA9-4244-9748-8F07E3D462D8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e5e5ff"/>
                </a:solidFill>
                <a:latin typeface="Garamond"/>
              </a:rPr>
              <a:t>Tem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Garamond"/>
              </a:rPr>
              <a:t>Uvo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0000"/>
                </a:solidFill>
                <a:latin typeface="Garamond"/>
              </a:rPr>
              <a:t>Osnovne karakteristik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Garamond"/>
              </a:rPr>
              <a:t>Oscilato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Garamond"/>
              </a:rPr>
              <a:t>Rese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Garamond"/>
              </a:rPr>
              <a:t>Memorij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Garamond"/>
              </a:rPr>
              <a:t>SFR - registr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Garamond"/>
              </a:rPr>
              <a:t>Tajm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Garamond"/>
              </a:rPr>
              <a:t>Serijski por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Garamond"/>
              </a:rPr>
              <a:t>Prekid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85CB0A-363C-4BBC-B34A-8BEF08AEE4D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e5e5ff"/>
                </a:solidFill>
                <a:latin typeface="Garamond"/>
              </a:rPr>
              <a:t>Tajmeri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Garamond"/>
              </a:rPr>
              <a:t>Dva 16 - bitna tajmer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Garamond"/>
              </a:rPr>
              <a:t>Tajmer 0 - TL0 i TH0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Garamond"/>
              </a:rPr>
              <a:t>Tajmer 1 - TL1 i TH1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Garamond"/>
              </a:rPr>
              <a:t>Postavljanje modova u kojim će raditi tajmeri vrši se pomoću TMO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Garamond"/>
              </a:rPr>
              <a:t>Kontrola rada se vrši kroz TCON koji je bit adresibila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850CB5-995D-4500-BA60-F595793AD491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e5e5ff"/>
                </a:solidFill>
                <a:latin typeface="Garamond"/>
              </a:rPr>
              <a:t>TMOD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Garamond"/>
              </a:rPr>
              <a:t>Za tajmer 1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Garamond"/>
              </a:rPr>
              <a:t>Bit 7 - gate = 1 - broji ako je \INT1 na visokom niv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Garamond"/>
              </a:rPr>
              <a:t>Bit 6 - C/T - 1=brojač događaja, 0=tajm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Garamond"/>
              </a:rPr>
              <a:t>Bit 5 i 4 - M1 i M0 - bitovi za selekciju mod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Garamond"/>
              </a:rPr>
              <a:t>Za tajmer 0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Garamond"/>
              </a:rPr>
              <a:t>Funkcije bita 7-4 za tajmer 1 se preslikavaju na funkcije bita 3-0 za tajmer 0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F2700A-17FA-4F5A-8B69-ABD5619E9854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e5e5ff"/>
                </a:solidFill>
                <a:latin typeface="Garamond"/>
              </a:rPr>
              <a:t>TC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Garamond"/>
              </a:rPr>
              <a:t>Za tajmer 1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Garamond"/>
              </a:rPr>
              <a:t>Bit 7 - TF1 - Overflow fleg koji se postavlja hardverski kada se sa maksimalne vrijednosti pređe na 0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Garamond"/>
              </a:rPr>
              <a:t>Bit 6 - TR1 - Bit za startovanje i zaustavljanje tajmer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Garamond"/>
              </a:rPr>
              <a:t>Za tajmer 0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Garamond"/>
              </a:rPr>
              <a:t>Bit 5 - TF0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Garamond"/>
              </a:rPr>
              <a:t>Bit 4 - TR0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Garamond"/>
              </a:rPr>
              <a:t>Ostali biti se koriste za kontrolu prekida i objašnjeni su u kasnijem tekstu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DD1D0D-321E-416D-8753-A896E3B78E90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e5e5ff"/>
                </a:solidFill>
                <a:latin typeface="Garamond"/>
              </a:rPr>
              <a:t>Modovi rada tajmer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Garamond"/>
              </a:rPr>
              <a:t>Mod 0 - 13 bitno brojanj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Garamond"/>
              </a:rPr>
              <a:t>Ostalo kao kompatibilnost sa prethodnim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Garamond"/>
              </a:rPr>
              <a:t>Mod 1 - 16 bitni mod brojanj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Garamond"/>
              </a:rPr>
              <a:t>Mod 2 - 8 bitni mod sa auto reloa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Garamond"/>
              </a:rPr>
              <a:t>TH sadrži vrijednost koja se učitav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Garamond"/>
              </a:rPr>
              <a:t>TL koristi za brojanj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Garamond"/>
              </a:rPr>
              <a:t>Mod 3 - 8 bitni mod brojanj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Garamond"/>
              </a:rPr>
              <a:t>Koristi se samo za tajmer 0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Garamond"/>
              </a:rPr>
              <a:t>Tajmer 1 je u ovom modu zaustavlje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Garamond"/>
              </a:rPr>
              <a:t>Fleg vezan za ovaj tajmer veže se za TH0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846799-7B3A-41B6-9E92-15FC6A3243B5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e5e5ff"/>
                </a:solidFill>
                <a:latin typeface="Garamond"/>
              </a:rPr>
              <a:t>Takt brojač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Garamond"/>
              </a:rPr>
              <a:t>U slučaju da se radi o vremenskom brojaču na brojač se dovodi učestanost takta podijeljena sa 12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Garamond"/>
              </a:rPr>
              <a:t>U slučaju kada se broje događaji brojač reaguje na silaznu ivicu signala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Garamond"/>
              </a:rPr>
              <a:t>sa pina 5 porta 3 za tajmer 1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Garamond"/>
              </a:rPr>
              <a:t>sa pina 4 istog porta za tajmer 0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Garamond"/>
              </a:rPr>
              <a:t>Da bi se silazna ivica detektovala potrebno je da se ne dese dvije promjene u dva mašinska ciklus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51F742-5CAC-4726-B17C-0D31B21863D5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e5e5ff"/>
                </a:solidFill>
                <a:latin typeface="Garamond"/>
              </a:rPr>
              <a:t>Tem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Garamond"/>
              </a:rPr>
              <a:t>Uvo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Garamond"/>
              </a:rPr>
              <a:t>Osnovne karakteristik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Garamond"/>
              </a:rPr>
              <a:t>Oscilato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Garamond"/>
              </a:rPr>
              <a:t>Rese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Garamond"/>
              </a:rPr>
              <a:t>Memorij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Garamond"/>
              </a:rPr>
              <a:t>SFR - registr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Garamond"/>
              </a:rPr>
              <a:t>Tajm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0000"/>
                </a:solidFill>
                <a:latin typeface="Garamond"/>
              </a:rPr>
              <a:t>Serijski por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Garamond"/>
              </a:rPr>
              <a:t>Prekid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909B76-C935-4563-A831-262B5C21FB4C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e5e5ff"/>
                </a:solidFill>
                <a:latin typeface="Garamond"/>
              </a:rPr>
              <a:t>Serijski por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Garamond"/>
              </a:rPr>
              <a:t>Full duplex serijski port sa baferom na prijemu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Garamond"/>
              </a:rPr>
              <a:t>Primljeni bajt može da se čita dok se prima sledeći baj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Garamond"/>
              </a:rPr>
              <a:t>Čitava kontrola serijskog porta vrši se preko tri registra specijalne namjene na dvije memorijske lokacije SBUF i SC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Garamond"/>
              </a:rPr>
              <a:t>Čitanjem SBUF registra čita se bajt iz prijemnog bafer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Garamond"/>
              </a:rPr>
              <a:t>Upisom u SBUF se vrši upis u shift regista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77A5F9-81A0-4E69-8B6C-62DED9C08501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e5e5ff"/>
                </a:solidFill>
                <a:latin typeface="Garamond"/>
              </a:rPr>
              <a:t>SC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Garamond"/>
              </a:rPr>
              <a:t>Bit 7 i 6 - SM0 i SM1 - odrećuju mod rada serijskog prenos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Garamond"/>
              </a:rPr>
              <a:t>Bit 5 - SM2 - određuje multiprocesorski mod komunikacij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Garamond"/>
              </a:rPr>
              <a:t>Bit 4 - REN - bit kojim se aktivira prije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Garamond"/>
              </a:rPr>
              <a:t>Bit 3 - TB8 - 9-ti poslati bi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Garamond"/>
              </a:rPr>
              <a:t>Bit 2 - RB8 - 9-ti primljeni bi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Garamond"/>
              </a:rPr>
              <a:t>Bit 1 - TI - interapt fleg za slanj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Garamond"/>
              </a:rPr>
              <a:t>Bit 0 - RI - interapt fleg za slanj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90C08A-0ADD-4536-B66C-41409AC4C1FF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e5e5ff"/>
                </a:solidFill>
                <a:latin typeface="Garamond"/>
              </a:rPr>
              <a:t>Modovi rada serijskog prenos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Garamond"/>
              </a:rPr>
              <a:t>Mod 0 - transfer funkcioniše kao običan shift registar sa taktom CLK/1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Garamond"/>
              </a:rPr>
              <a:t>Mod 1 - 8-bitni UART promjenljive frekvencij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Garamond"/>
              </a:rPr>
              <a:t>Mod 2 - 9-bitni UART fiksne frekvencije CLK/12 ili CLK/ 64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Garamond"/>
              </a:rPr>
              <a:t>Mod 3 - 9-bitni UART promjenljive frekvencij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918A9F-C833-4924-B41D-ABBE42655716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od 0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Garamond"/>
              </a:rPr>
              <a:t>U ovom modu i slanje i prijem podataka vrše se preko RX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Garamond"/>
              </a:rPr>
              <a:t>Preko TX se šalje signal tak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Garamond"/>
              </a:rPr>
              <a:t>Slanje počinje kada se podatak upiše u SBUF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Garamond"/>
              </a:rPr>
              <a:t>Prijem počinje setovanjem bita R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412480-5B8E-4C7C-A35D-5A3445F23C10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e5e5ff"/>
                </a:solidFill>
                <a:latin typeface="Garamond"/>
              </a:rPr>
              <a:t>Osnovne karakteristike</a:t>
            </a:r>
            <a:r>
              <a:rPr b="1" lang="sr-Latn-CS" sz="4400" spc="-1" strike="noStrike">
                <a:solidFill>
                  <a:srgbClr val="e5e5ff"/>
                </a:solidFill>
                <a:latin typeface="Garamond"/>
              </a:rPr>
              <a:t>	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Garamond"/>
              </a:rPr>
              <a:t>8-bitni mikrokontrol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Garamond"/>
              </a:rPr>
              <a:t>Integrisana programska memorij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Garamond"/>
              </a:rPr>
              <a:t>Integrisana memorija podatak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Garamond"/>
              </a:rPr>
              <a:t>Dva 16-bitna brojač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Garamond"/>
              </a:rPr>
              <a:t>Serijski por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Garamond"/>
              </a:rPr>
              <a:t>U/I portov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Garamond"/>
              </a:rPr>
              <a:t>Oscilato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BD1827-C41F-49F1-A77C-00FDCD8F8A1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e5e5ff"/>
                </a:solidFill>
                <a:latin typeface="Garamond"/>
              </a:rPr>
              <a:t>Mod 1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Garamond"/>
              </a:rPr>
              <a:t>8-bitni UART - univerzalni asinhroni prijemnik i predajni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Garamond"/>
              </a:rPr>
              <a:t>Redoslijed slanja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Garamond"/>
              </a:rPr>
              <a:t>Start bit (0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Garamond"/>
              </a:rPr>
              <a:t>8 bita podataka počev od LSB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Garamond"/>
              </a:rPr>
              <a:t>Stop bit (1) koji ide u RB8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Garamond"/>
              </a:rPr>
              <a:t>Brzina slanja zadaje se tajmerom 1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24971A-530F-4EEE-83C7-133CD138AE65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e5e5ff"/>
                </a:solidFill>
                <a:latin typeface="Garamond"/>
              </a:rPr>
              <a:t>Modovi 2 i 3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Garamond"/>
              </a:rPr>
              <a:t>9-bitni UAR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Garamond"/>
              </a:rPr>
              <a:t>Redoslijed slanj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Garamond"/>
              </a:rPr>
              <a:t>Start bit(0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Garamond"/>
              </a:rPr>
              <a:t>8 bita podataka počev od LS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Garamond"/>
              </a:rPr>
              <a:t>bit TB8 iz SC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Garamond"/>
              </a:rPr>
              <a:t>stop bit (1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Garamond"/>
              </a:rPr>
              <a:t>Određivanje brzine vrši se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Garamond"/>
              </a:rPr>
              <a:t>Za mod 2 taktom oscilator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Garamond"/>
              </a:rPr>
              <a:t>Za mod 3 tajmerom 1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Garamond"/>
              </a:rPr>
              <a:t>Dodavanje parnosti se realizuje softverskim putem setovanjem TB8 bit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6ABD3E-BF61-47BA-B3A4-E29B7BC4EB1D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e5e5ff"/>
                </a:solidFill>
                <a:latin typeface="Garamond"/>
              </a:rPr>
              <a:t>RI i TI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Garamond"/>
              </a:rPr>
              <a:t>RI - Prekid po prijemu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Garamond"/>
              </a:rPr>
              <a:t>TI - Prekid po slanju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Garamond"/>
              </a:rPr>
              <a:t>To su biti u SC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Garamond"/>
              </a:rPr>
              <a:t>Signaliziraju da je operacija prijema odnosno slanja završen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Garamond"/>
              </a:rPr>
              <a:t>Postavljaju se hardversk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Garamond"/>
              </a:rPr>
              <a:t>Brišu se softversk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Garamond"/>
              </a:rPr>
              <a:t>Mogu biti provjeravani iz programa il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Garamond"/>
              </a:rPr>
              <a:t>Mogu se podesiti da izazivaju preki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982CF7-81AD-410B-8E12-B42BBBC4ADF5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e5e5ff"/>
                </a:solidFill>
                <a:latin typeface="Garamond"/>
              </a:rPr>
              <a:t>Multiprocesorska komunikacij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Garamond"/>
              </a:rPr>
              <a:t>Moguća je u modovima 2 i 3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Garamond"/>
              </a:rPr>
              <a:t>Ovaj režim dozvoljava da se postavljanjem bita SM2 u SCON izaziva prekid ako je primljeni deveti bit 1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Garamond"/>
              </a:rPr>
              <a:t>To omogućava da se slave kontrolerima šalje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Garamond"/>
              </a:rPr>
              <a:t>adresa sa TB8=1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Garamond"/>
              </a:rPr>
              <a:t>podatak sa TB8=0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Garamond"/>
              </a:rPr>
              <a:t>Podatak prima samo onaj kome je namijenj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B0255E-3227-4572-ABB9-785C4BD5D36F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e5e5ff"/>
                </a:solidFill>
                <a:latin typeface="Garamond"/>
              </a:rPr>
              <a:t>Generisanje baud rat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Garamond"/>
              </a:rPr>
              <a:t>SMOD je bit 7 registra PC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1600200" y="2133720"/>
            <a:ext cx="5943600" cy="4032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F844B4-919F-4728-957F-C3D00705BFC3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e5e5ff"/>
                </a:solidFill>
                <a:latin typeface="Garamond"/>
              </a:rPr>
              <a:t>Izbor kristal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838080" y="2286000"/>
            <a:ext cx="7391520" cy="3352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08C010-BF7D-4603-A019-574C3DBE9607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e5e5ff"/>
                </a:solidFill>
                <a:latin typeface="Garamond"/>
              </a:rPr>
              <a:t>Tem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Garamond"/>
              </a:rPr>
              <a:t>Uvo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Garamond"/>
              </a:rPr>
              <a:t>Osnovne karakteristik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Garamond"/>
              </a:rPr>
              <a:t>Oscilato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Garamond"/>
              </a:rPr>
              <a:t>Rese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Garamond"/>
              </a:rPr>
              <a:t>Memorij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Garamond"/>
              </a:rPr>
              <a:t>SFR - registr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Garamond"/>
              </a:rPr>
              <a:t>Tajm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Garamond"/>
              </a:rPr>
              <a:t>Serijski por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0000"/>
                </a:solidFill>
                <a:latin typeface="Garamond"/>
              </a:rPr>
              <a:t>Prekid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BF70AC-F2B2-4C1B-9743-CA5E78030225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e5e5ff"/>
                </a:solidFill>
                <a:latin typeface="Garamond"/>
              </a:rPr>
              <a:t>Prekidi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Garamond"/>
              </a:rPr>
              <a:t>Ima 5 izvora prekida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Garamond"/>
              </a:rPr>
              <a:t>Dva eksterna prekid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Garamond"/>
              </a:rPr>
              <a:t>Dva prekida za tajmer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Garamond"/>
              </a:rPr>
              <a:t>Jedan prekid za serijski por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Garamond"/>
              </a:rPr>
              <a:t>Nakon reseta svi prekidi su zabranjen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B2A4FC-EFA3-4AAE-8D43-C9BB9D74137B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e5e5ff"/>
                </a:solidFill>
                <a:latin typeface="Garamond"/>
              </a:rPr>
              <a:t>Kontrola prekid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Garamond"/>
              </a:rPr>
              <a:t>Kontrola prekida vrši se preko dva registra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Garamond"/>
              </a:rPr>
              <a:t>PI - registar prioritet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Garamond"/>
              </a:rPr>
              <a:t>EI - registar dozvoljavanja prekid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Garamond"/>
              </a:rPr>
              <a:t>Niža 4 bita registra TC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Garamond"/>
              </a:rPr>
              <a:t>Svakom prekidu je dodijeljen po jedan bit za definisanje visokog prioriteta (1) ili niskog prioriteta (0) prekid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357DDA-5B5F-4A1E-ADA5-1D31820DC6C6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e5e5ff"/>
                </a:solidFill>
                <a:latin typeface="Garamond"/>
              </a:rPr>
              <a:t>PI - prioriteti prekid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Garamond"/>
              </a:rPr>
              <a:t>Značenje za PI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Garamond"/>
              </a:rPr>
              <a:t>Biti 7 - 5 se ne koris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Garamond"/>
              </a:rPr>
              <a:t>Bit 4 - za serijski por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Garamond"/>
              </a:rPr>
              <a:t>Bit 3 - za tajmer 1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Garamond"/>
              </a:rPr>
              <a:t>Bit 2 - za eksterni prekid 1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Garamond"/>
              </a:rPr>
              <a:t>Bit 1 - za tajmer 0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Garamond"/>
              </a:rPr>
              <a:t>Bit 0 - za eksterni prekid 0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1971DF-A047-479E-B7A0-FC8C454AADEA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e5e5ff"/>
                </a:solidFill>
                <a:latin typeface="Garamond"/>
              </a:rPr>
              <a:t>Pinovi na 8051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514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Garamond"/>
              </a:rPr>
              <a:t>Prikazani raspored pinova važi za 8051 u 40-pinskom DIP pakovanju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495680" y="1523880"/>
            <a:ext cx="3098880" cy="4724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5269B0-D3FF-4E7D-9ADC-776BE9D8C46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e5e5ff"/>
                </a:solidFill>
                <a:latin typeface="Garamond"/>
              </a:rPr>
              <a:t>Prioriteti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Garamond"/>
              </a:rPr>
              <a:t>Prvo se prihvataju prekidi višeg prioriteta pa prekidi nižeg priorite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Garamond"/>
              </a:rPr>
              <a:t>Ukoliko postoji više prekida istog prioriteta redoslijed prihvatanja je sledeći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Garamond"/>
              </a:rPr>
              <a:t>Eksterni prekid 0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Garamond"/>
              </a:rPr>
              <a:t>Tajmer 0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Garamond"/>
              </a:rPr>
              <a:t>Eksterni prekid 1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Garamond"/>
              </a:rPr>
              <a:t>Tajmer 1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Garamond"/>
              </a:rPr>
              <a:t>Serijski por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23AC6B-12BD-4C76-A81D-048AF0C0CEDA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e5e5ff"/>
                </a:solidFill>
                <a:latin typeface="Garamond"/>
              </a:rPr>
              <a:t>Bitovi prekid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Garamond"/>
              </a:rPr>
              <a:t>Bitovi koji indikuju da je došlo do prekida su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Garamond"/>
              </a:rPr>
              <a:t>TF0 i TF1 za tajmer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Garamond"/>
              </a:rPr>
              <a:t>IE0 i IE1 (biti 1 i 3 registra TCON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Garamond"/>
              </a:rPr>
              <a:t>TI i RI za serijski por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FBF77F-4B67-487E-9D60-D09F4F7187B9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e5e5ff"/>
                </a:solidFill>
                <a:latin typeface="Garamond"/>
              </a:rPr>
              <a:t>TC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Garamond"/>
              </a:rPr>
              <a:t>Preostala dva bita za selekciju tipa eksternog prekida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Garamond"/>
              </a:rPr>
              <a:t>Bit 2 - IT1 - za eksterni prekid 1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Garamond"/>
              </a:rPr>
              <a:t>Bit 0 - IT0 - za eksterni prekid 0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Garamond"/>
              </a:rPr>
              <a:t>1 - silazna ivic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Garamond"/>
              </a:rPr>
              <a:t>0 - nizak niv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E83987-9743-4F1A-9891-A695BA9883ED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e5e5ff"/>
                </a:solidFill>
                <a:latin typeface="Garamond"/>
              </a:rPr>
              <a:t>I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Garamond"/>
              </a:rPr>
              <a:t>Registar mask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Garamond"/>
              </a:rPr>
              <a:t>Značenje bitova:   (1-enable, 0-disable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Garamond"/>
              </a:rPr>
              <a:t>Bit 7 - EA - globalno maskiranje prekid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Garamond"/>
              </a:rPr>
              <a:t>Biti 6 i 5 - ne koriste s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Garamond"/>
              </a:rPr>
              <a:t>Bit 4 - maska za serijski por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Garamond"/>
              </a:rPr>
              <a:t>Bit 3 - maska za tajmer 1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Garamond"/>
              </a:rPr>
              <a:t>Bit 2 - maska za eksterni prekid 1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Garamond"/>
              </a:rPr>
              <a:t>Bit 1 - maska za tajmer 0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Garamond"/>
              </a:rPr>
              <a:t>Bit 0 - maska za eksterni preki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938B05-0E5F-4365-B449-523705F7D639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e5e5ff"/>
                </a:solidFill>
                <a:latin typeface="Garamond"/>
              </a:rPr>
              <a:t>Adrese prekidnih rutin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838080" y="2217600"/>
            <a:ext cx="7543800" cy="3322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A6F9DA-315F-4ECF-8010-09D49308BEAD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e5e5ff"/>
                </a:solidFill>
                <a:latin typeface="Garamond"/>
              </a:rPr>
              <a:t>Rezim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Garamond"/>
              </a:rPr>
              <a:t>Uvo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Garamond"/>
              </a:rPr>
              <a:t>Osnovne karakteristik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Garamond"/>
              </a:rPr>
              <a:t>Oscilato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Garamond"/>
              </a:rPr>
              <a:t>Rese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Garamond"/>
              </a:rPr>
              <a:t>Memorij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Garamond"/>
              </a:rPr>
              <a:t>SFR - registr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Garamond"/>
              </a:rPr>
              <a:t>Tajm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Garamond"/>
              </a:rPr>
              <a:t>Serijski por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Garamond"/>
              </a:rPr>
              <a:t>Prekid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6B86F1-BA17-4D97-AA9A-B390A89BB7AE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e5e5ff"/>
                </a:solidFill>
                <a:latin typeface="Garamond"/>
              </a:rPr>
              <a:t>Pinovi na 8051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Garamond"/>
              </a:rPr>
              <a:t>Pinovi za napajanje VSS i VD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Garamond"/>
              </a:rPr>
              <a:t>Pinovi za oscilator XTL1 i XTL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Garamond"/>
              </a:rPr>
              <a:t>U/I portovi P0, P1, P2 i P3, svaki sa po osam bi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Garamond"/>
              </a:rPr>
              <a:t>Reset pin R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Garamond"/>
              </a:rPr>
              <a:t>Kontrolni pinovi \PSEN, \EA i A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747924-8620-4A2E-BEAA-804630D2987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e5e5ff"/>
                </a:solidFill>
                <a:latin typeface="Garamond"/>
              </a:rPr>
              <a:t>Pinovi na 8051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Garamond"/>
              </a:rPr>
              <a:t>Port P3 može da se koristi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Garamond"/>
              </a:rPr>
              <a:t>kao skup U/I pinov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Garamond"/>
              </a:rPr>
              <a:t>kao skup pinova posebne namjen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Garamond"/>
              </a:rPr>
              <a:t>Alternativne funkcije pinova porta P3 su prikazane na prethodnoj slici a biće detaljno objašnjene kasnij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05621B-63F1-4892-965E-4016CBA77D2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e5e5ff"/>
                </a:solidFill>
                <a:latin typeface="Garamond"/>
              </a:rPr>
              <a:t>Tem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Garamond"/>
              </a:rPr>
              <a:t>Uvo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Garamond"/>
              </a:rPr>
              <a:t>Osnovne karakteristik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0000"/>
                </a:solidFill>
                <a:latin typeface="Garamond"/>
              </a:rPr>
              <a:t>Oscilato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Garamond"/>
              </a:rPr>
              <a:t>Rese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Garamond"/>
              </a:rPr>
              <a:t>Memorij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Garamond"/>
              </a:rPr>
              <a:t>SFR - registr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Garamond"/>
              </a:rPr>
              <a:t>Tajm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Garamond"/>
              </a:rPr>
              <a:t>Serijski por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Garamond"/>
              </a:rPr>
              <a:t>Prekid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3E7CD2-068F-4987-8371-FA9E4C4088C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2T14:23:00Z</dcterms:created>
  <dc:creator>sasa</dc:creator>
  <dc:description/>
  <dc:language>en-US</dc:language>
  <cp:lastModifiedBy>sasa</cp:lastModifiedBy>
  <dcterms:modified xsi:type="dcterms:W3CDTF">2005-12-23T10:55:30Z</dcterms:modified>
  <cp:revision>108</cp:revision>
  <dc:subject/>
  <dc:title>MIKROKONTROLER 8051</dc:title>
</cp:coreProperties>
</file>