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4.gif" ContentType="image/gif"/>
  <Override PartName="/ppt/media/image32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0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40.jpeg" ContentType="image/jpeg"/>
  <Override PartName="/ppt/media/image29.jpeg" ContentType="image/jpeg"/>
  <Override PartName="/ppt/media/image7.gif" ContentType="image/gif"/>
  <Override PartName="/ppt/media/image6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F4E-3384-44EC-BDF4-30A43B40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CD6-C479-4574-BA48-DD8259CE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0B1-6D14-4AEB-A7B5-0156135F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864-ADAD-4737-94AF-C4AE6A54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8B0-ADD2-47FF-A7E8-C831E18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175-BAF1-418F-B6BE-29A26B7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8FC-757C-4767-A2ED-68F5FC8A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2A8-78DE-41F6-8F88-C3B6C694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085-31E5-4D7C-A7FA-F91FC25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7DE-DAE8-40AD-BD17-B1F0007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1C6-FE83-45E2-8365-3854E83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5FB-82B8-4EC1-BF06-8196AFB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0471-D277-4E99-B9FC-85CDBD084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8862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 Naum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Bojana Mi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anaumovic@yahoo.com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ojanamilasinovi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Electrical Enginee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chool of Electric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elgra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University of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. Dr Veljko Milutin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m@etf.bg.ac.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Electric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438280"/>
            <a:ext cx="80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CI Express System Architectu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CI Bus Bas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4657680" cy="3666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44440" y="175248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 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System Memory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333760" y="2209680"/>
            <a:ext cx="144756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209680"/>
            <a:ext cx="16002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03848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49528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601992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9528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49528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019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00880" y="63244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erformance 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C28-7C86-40C0-A335-6258087259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is software backwards compat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h PCI and PCI-X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upport chip-to-chip interconnect and board-to-board interconnect via cards and connectors,                   which structure is similar to PCI cards and conn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3114720" cy="27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440-B644-4710-A532-E851630A41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serial interconnect between two devices results in fewer pins per device packag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which means that PCI Express chip and board design cost and board design complexity are 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2666880" cy="238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A88-74F3-45E8-85F7-C37A441763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23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9480" y="3886200"/>
            <a:ext cx="7696080" cy="2284920"/>
            <a:chOff x="609480" y="3886200"/>
            <a:chExt cx="7696080" cy="228492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09480" y="3886200"/>
              <a:ext cx="769608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745200" y="4251960"/>
              <a:ext cx="7430040" cy="1412280"/>
              <a:chOff x="745200" y="4251960"/>
              <a:chExt cx="7430040" cy="14122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5200" y="4268160"/>
                <a:ext cx="743004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5200" y="4268160"/>
                <a:ext cx="743004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720" y="4290840"/>
                <a:ext cx="5425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04240" y="4251960"/>
                <a:ext cx="611100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2280" y="4783320"/>
                <a:ext cx="637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25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26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26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27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278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743200" y="11430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8EA-1436-433D-A0D5-5379C7B5DF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 Express Top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162560" cy="484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5486400" y="1143000"/>
            <a:ext cx="2666880" cy="1143000"/>
          </a:xfrm>
          <a:prstGeom prst="wedgeRoundRectCallout">
            <a:avLst>
              <a:gd name="adj1" fmla="val -86962"/>
              <a:gd name="adj2" fmla="val 7027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he Root Complex is the connection between CPU, memory and PCI Express fabri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5486400"/>
            <a:ext cx="1752480" cy="990720"/>
          </a:xfrm>
          <a:prstGeom prst="wedgeRoundRectCallout">
            <a:avLst>
              <a:gd name="adj1" fmla="val 43750"/>
              <a:gd name="adj2" fmla="val -7676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Endpoints are peripheral devices, such as Ethernet,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34290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53341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5486400"/>
            <a:ext cx="1371600" cy="762120"/>
          </a:xfrm>
          <a:prstGeom prst="wedgeRoundRectCallout">
            <a:avLst>
              <a:gd name="adj1" fmla="val -74421"/>
              <a:gd name="adj2" fmla="val -756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4290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342900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64008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229600" y="342864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1600200" cy="838440"/>
          </a:xfrm>
          <a:prstGeom prst="wedgeRoundRectCallout">
            <a:avLst>
              <a:gd name="adj1" fmla="val 14680"/>
              <a:gd name="adj2" fmla="val 11893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576-65FC-45DA-9ECE-8045350E8F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553080" y="1143000"/>
            <a:ext cx="21258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305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313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457200" y="3048120"/>
            <a:ext cx="8381520" cy="2817720"/>
            <a:chOff x="457200" y="3048120"/>
            <a:chExt cx="8381520" cy="2817720"/>
          </a:xfrm>
        </p:grpSpPr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457200" y="3048120"/>
              <a:ext cx="8381520" cy="28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"/>
            <p:cNvGrpSpPr/>
            <p:nvPr/>
          </p:nvGrpSpPr>
          <p:grpSpPr>
            <a:xfrm>
              <a:off x="605160" y="3499200"/>
              <a:ext cx="8091720" cy="1741320"/>
              <a:chOff x="605160" y="3499200"/>
              <a:chExt cx="8091720" cy="1741320"/>
            </a:xfrm>
          </p:grpSpPr>
          <p:sp>
            <p:nvSpPr>
              <p:cNvPr id="321" name=""/>
              <p:cNvSpPr/>
              <p:nvPr/>
            </p:nvSpPr>
            <p:spPr>
              <a:xfrm>
                <a:off x="605160" y="3519000"/>
                <a:ext cx="8091720" cy="172152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160" y="3519000"/>
                <a:ext cx="8091720" cy="1449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6800" y="3547080"/>
                <a:ext cx="591120" cy="13107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49520" y="3499200"/>
                <a:ext cx="6655320" cy="14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29920" y="4194720"/>
                <a:ext cx="69426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329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337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343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345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F19-E498-418C-86DA-39A956BCF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 and 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PCI Express interconnect consists of either x1, x2, x4, x8, x16 or x32 point-to-point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Lane consists of signal pairs in each direc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x1 Link consists of 1 Lane or 1 differential signal p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 each dir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Link supports a symmetric number of La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 each direction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438640" cy="330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523880" y="4724280"/>
            <a:ext cx="601992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954-6E36-427C-A9E9-1CAA00F82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l Sign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positive voltage difference between the D+ and D- terminals implies Logical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negative voltage difference between D+ and D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mplies a Logical 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 voltage difference between D+ and 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hat the driver is in the high-impedance tristate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6172200" cy="1725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403848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56D-A53F-42B7-B17D-7BB1F118E1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et Based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e transmitted and received serially and byte striped across the available Lanes of the 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Lanes implemented on a Link the faster a packet is transmitted and the greater the bandwidth of the 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3124080" cy="23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A1B-9065-4425-A006-E2E36257DA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28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Traffic Cla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Quality of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oS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eature of PCI Express refers to the capability of routing packe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om different applications through the fab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h differentiated prior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packets contain a Traffic Class (TC) number between 0 and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ckets are routed through the fabric                   by utilizing virtual channel (VC) buff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ffic Class is individually mapped                        to a Virtual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5738760"/>
            <a:ext cx="3581280" cy="17640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3505320" y="4800600"/>
            <a:ext cx="2057040" cy="1905120"/>
            <a:chOff x="3505320" y="4800600"/>
            <a:chExt cx="2057040" cy="1905120"/>
          </a:xfrm>
        </p:grpSpPr>
        <p:sp>
          <p:nvSpPr>
            <p:cNvPr id="366" name="Gear"/>
            <p:cNvSpPr/>
            <p:nvPr/>
          </p:nvSpPr>
          <p:spPr>
            <a:xfrm>
              <a:off x="4645800" y="4800600"/>
              <a:ext cx="916560" cy="873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5160600"/>
              <a:ext cx="1096200" cy="1044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6320" y="5545800"/>
              <a:ext cx="1218240" cy="1159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105520" y="5715000"/>
            <a:ext cx="4038480" cy="2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03F-0BDA-4E79-BC47-AE93E4884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4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5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6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7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8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629400" y="1295280"/>
            <a:ext cx="2362320" cy="15130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89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791-D7B3-412E-9F87-E9E44C639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packet transmitted by a device is received into a VC buffer in the receiver at the opposite end of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protocol by which the transmitter ensures that the receiving buffer has sufficient space available is referred to as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receiver periodically updates the transmitter with information regarding the amount of buffer space it has available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28312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F85-C55E-4E2D-BD24-475C3E07CF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38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Topop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39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457200" y="1828800"/>
            <a:ext cx="7848360" cy="2284920"/>
            <a:chOff x="457200" y="1828800"/>
            <a:chExt cx="7848360" cy="2284920"/>
          </a:xfrm>
        </p:grpSpPr>
        <p:pic>
          <p:nvPicPr>
            <p:cNvPr id="400" name="" descr=""/>
            <p:cNvPicPr/>
            <p:nvPr/>
          </p:nvPicPr>
          <p:blipFill>
            <a:blip r:embed="rId5"/>
            <a:stretch/>
          </p:blipFill>
          <p:spPr>
            <a:xfrm>
              <a:off x="457200" y="1828800"/>
              <a:ext cx="784836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1" name=""/>
            <p:cNvGrpSpPr/>
            <p:nvPr/>
          </p:nvGrpSpPr>
          <p:grpSpPr>
            <a:xfrm>
              <a:off x="595800" y="2194560"/>
              <a:ext cx="7576920" cy="1412280"/>
              <a:chOff x="595800" y="2194560"/>
              <a:chExt cx="7576920" cy="1412280"/>
            </a:xfrm>
          </p:grpSpPr>
          <p:sp>
            <p:nvSpPr>
              <p:cNvPr id="402" name=""/>
              <p:cNvSpPr/>
              <p:nvPr/>
            </p:nvSpPr>
            <p:spPr>
              <a:xfrm>
                <a:off x="595800" y="2210760"/>
                <a:ext cx="757692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5800" y="2210760"/>
                <a:ext cx="757692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2760" y="2233440"/>
                <a:ext cx="5533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73920" y="2194560"/>
                <a:ext cx="623196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68000" y="2725920"/>
                <a:ext cx="6500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41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418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3276720" y="4191120"/>
            <a:ext cx="2361960" cy="22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202-65EA-48DC-9E84-DF8F3D62F3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CI Express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and reception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Lay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2004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3962520"/>
            <a:ext cx="1676520" cy="53316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48006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54864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66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24172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CB3-8C15-4E6D-B6FE-E1B8C0AB78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LP Packet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00200"/>
            <a:ext cx="3200400" cy="228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mory read (M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O read (I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O write (IO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figuration read (Cfg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figuration write (Cfg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4724280"/>
            <a:ext cx="320040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mory write (M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ssage (Msg, Ms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297180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518148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C6A-D866-4EB9-932F-068305F1AA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on Posted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ad trans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ata i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pletion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629240" cy="35053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52280" y="1447920"/>
            <a:ext cx="1828800" cy="990360"/>
          </a:xfrm>
          <a:prstGeom prst="wedgeRoundRectCallout">
            <a:avLst>
              <a:gd name="adj1" fmla="val 38800"/>
              <a:gd name="adj2" fmla="val 126921"/>
              <a:gd name="adj3" fmla="val 16667"/>
            </a:avLst>
          </a:prstGeom>
          <a:solidFill>
            <a:srgbClr val="fee5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 or endpoi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1295280"/>
            <a:ext cx="2514600" cy="990720"/>
          </a:xfrm>
          <a:prstGeom prst="wedgeRoundRectCallout">
            <a:avLst>
              <a:gd name="adj1" fmla="val -78597"/>
              <a:gd name="adj2" fmla="val 143750"/>
              <a:gd name="adj3" fmla="val 16667"/>
            </a:avLst>
          </a:prstGeom>
          <a:solidFill>
            <a:srgbClr val="fee5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, switches, bridges or endpoi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659-B097-4837-84D4-97961C8ED4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rit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data is in the reception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on Posted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4648320" cy="30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3F9-12FA-4CE7-B0A6-E17387A8C4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osted Memory Write 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data i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quest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error handl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NOT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4B4-DAA7-403F-85ED-1FAE5FF2D9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osted Message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outing is based on message’s address, device ID or routed im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46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8CE-379A-4741-99E7-1FD86D0216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457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4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465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opop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2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473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481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380880" y="3886200"/>
            <a:ext cx="8381880" cy="2284920"/>
            <a:chOff x="380880" y="3886200"/>
            <a:chExt cx="8381880" cy="2284920"/>
          </a:xfrm>
        </p:grpSpPr>
        <p:pic>
          <p:nvPicPr>
            <p:cNvPr id="487" name="" descr=""/>
            <p:cNvPicPr/>
            <p:nvPr/>
          </p:nvPicPr>
          <p:blipFill>
            <a:blip r:embed="rId6"/>
            <a:stretch/>
          </p:blipFill>
          <p:spPr>
            <a:xfrm>
              <a:off x="380880" y="3886200"/>
              <a:ext cx="838188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528840" y="4251960"/>
              <a:ext cx="8092080" cy="1412280"/>
              <a:chOff x="528840" y="4251960"/>
              <a:chExt cx="8092080" cy="1412280"/>
            </a:xfrm>
          </p:grpSpPr>
          <p:sp>
            <p:nvSpPr>
              <p:cNvPr id="489" name=""/>
              <p:cNvSpPr/>
              <p:nvPr/>
            </p:nvSpPr>
            <p:spPr>
              <a:xfrm>
                <a:off x="528840" y="4268160"/>
                <a:ext cx="809208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8840" y="4268160"/>
                <a:ext cx="809208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0480" y="4290840"/>
                <a:ext cx="5911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573200" y="4251960"/>
                <a:ext cx="665568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53600" y="4783320"/>
                <a:ext cx="6942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495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497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2" name="" descr=""/>
          <p:cNvPicPr/>
          <p:nvPr/>
        </p:nvPicPr>
        <p:blipFill>
          <a:blip r:embed="rId8"/>
          <a:stretch/>
        </p:blipFill>
        <p:spPr>
          <a:xfrm>
            <a:off x="2819520" y="1523880"/>
            <a:ext cx="3200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AC8-9220-4118-8AD4-3D63EA173E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CI Express Device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7116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095880" y="1676520"/>
            <a:ext cx="2362320" cy="457200"/>
          </a:xfrm>
          <a:prstGeom prst="wedgeRoundRectCallout">
            <a:avLst>
              <a:gd name="adj1" fmla="val -126745"/>
              <a:gd name="adj2" fmla="val 27222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mit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4419720"/>
            <a:ext cx="2743200" cy="609480"/>
          </a:xfrm>
          <a:prstGeom prst="wedgeEllipseCallout">
            <a:avLst>
              <a:gd name="adj1" fmla="val -183796"/>
              <a:gd name="adj2" fmla="val -26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ceive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E5D-BAA0-406D-8E58-00583E5DCD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9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10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11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12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13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380880" y="1752480"/>
            <a:ext cx="8153280" cy="2361240"/>
            <a:chOff x="380880" y="1752480"/>
            <a:chExt cx="8153280" cy="2361240"/>
          </a:xfrm>
        </p:grpSpPr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380880" y="1752480"/>
              <a:ext cx="8153280" cy="236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24880" y="2130480"/>
              <a:ext cx="7871400" cy="1459080"/>
              <a:chOff x="524880" y="2130480"/>
              <a:chExt cx="7871400" cy="1459080"/>
            </a:xfrm>
          </p:grpSpPr>
          <p:sp>
            <p:nvSpPr>
              <p:cNvPr id="138" name=""/>
              <p:cNvSpPr/>
              <p:nvPr/>
            </p:nvSpPr>
            <p:spPr>
              <a:xfrm>
                <a:off x="524880" y="2147040"/>
                <a:ext cx="7871400" cy="144252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880" y="2147040"/>
                <a:ext cx="7871400" cy="121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94360" y="2170440"/>
                <a:ext cx="574920" cy="10983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40800" y="2130480"/>
                <a:ext cx="6473880" cy="12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26960" y="2684880"/>
                <a:ext cx="67536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124080" y="4038480"/>
            <a:ext cx="2667240" cy="22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329-DCB3-4A96-8C6F-F7A02A7A4A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ayers Key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486400" cy="50990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09480" y="2743200"/>
            <a:ext cx="2438640" cy="990720"/>
          </a:xfrm>
          <a:prstGeom prst="wedgeRoundRectCallout">
            <a:avLst>
              <a:gd name="adj1" fmla="val 102342"/>
              <a:gd name="adj2" fmla="val -166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 core logic or endpoint core logic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4114800"/>
            <a:ext cx="220968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thernet control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B contr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0DE-B91D-429E-971A-6F9181EF41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 Packet (TL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73720" cy="41022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57200" y="2514600"/>
            <a:ext cx="1447920" cy="609480"/>
          </a:xfrm>
          <a:prstGeom prst="wedgeRoundRectCallout">
            <a:avLst>
              <a:gd name="adj1" fmla="val 98574"/>
              <a:gd name="adj2" fmla="val 134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ig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38880" y="2590920"/>
            <a:ext cx="1447920" cy="609480"/>
          </a:xfrm>
          <a:prstGeom prst="wedgeRoundRectCallout">
            <a:avLst>
              <a:gd name="adj1" fmla="val -93310"/>
              <a:gd name="adj2" fmla="val 129166"/>
              <a:gd name="adj3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15C-1E98-4B08-8B6B-8E259E4411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ansmit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receive por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314800" cy="13622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2324160" cy="13622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715000" y="1219320"/>
            <a:ext cx="3276720" cy="1523880"/>
          </a:xfrm>
          <a:prstGeom prst="wedgeRoundRectCallout">
            <a:avLst>
              <a:gd name="adj1" fmla="val -174032"/>
              <a:gd name="adj2" fmla="val 7323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 DW or 4 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ains address, TLP type, transfer size, requester ID/completer ID, ta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3200400"/>
            <a:ext cx="3124080" cy="380880"/>
          </a:xfrm>
          <a:prstGeom prst="wedgeRoundRectCallout">
            <a:avLst>
              <a:gd name="adj1" fmla="val -122509"/>
              <a:gd name="adj2" fmla="val -629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nerated by this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F46-1275-4219-800D-5FC3DC4A38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Data Lin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transmit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receive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4309920" cy="3808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5181480"/>
            <a:ext cx="4310280" cy="3812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095880" y="3200400"/>
            <a:ext cx="2133720" cy="1295280"/>
          </a:xfrm>
          <a:prstGeom prst="cloudCallout">
            <a:avLst>
              <a:gd name="adj1" fmla="val -89657"/>
              <a:gd name="adj2" fmla="val -96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nerated and ap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3429000"/>
            <a:ext cx="2666880" cy="5335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eserves a copy of T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419360" y="495288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2468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000640" y="495288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5DA-71CA-4DA4-97CB-E74830B5A9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hysical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r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and Electrical Physical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900760" cy="1571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90720" y="3200400"/>
            <a:ext cx="3657600" cy="1219320"/>
          </a:xfrm>
          <a:prstGeom prst="cloudCallout">
            <a:avLst>
              <a:gd name="adj1" fmla="val -36935"/>
              <a:gd name="adj2" fmla="val 132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cessing packets before transmission on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3200400"/>
            <a:ext cx="3657600" cy="1219320"/>
          </a:xfrm>
          <a:prstGeom prst="cloudCallout">
            <a:avLst>
              <a:gd name="adj1" fmla="val -94402"/>
              <a:gd name="adj2" fmla="val 131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alog interface of the PL that connects to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A4B-7876-49BE-BA5D-DDDAD5A589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 Packet (TL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th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038480" cy="28638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191120" cy="2948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191120" y="2895480"/>
            <a:ext cx="1752480" cy="381240"/>
          </a:xfrm>
          <a:custGeom>
            <a:avLst/>
            <a:gdLst>
              <a:gd name="textAreaLeft" fmla="*/ 332280 w 1752480"/>
              <a:gd name="textAreaRight" fmla="*/ 1140480 w 17524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98" hR="21600" stAng="10800000" swAng="-5400000"/>
                <a:lnTo>
                  <a:pt x="9960" y="21600"/>
                </a:lnTo>
                <a:arcTo wR="8198" hR="21600" stAng="5400000" swAng="-3611202"/>
                <a:lnTo>
                  <a:pt x="21413" y="4590"/>
                </a:lnTo>
                <a:lnTo>
                  <a:pt x="17276" y="0"/>
                </a:lnTo>
                <a:lnTo>
                  <a:pt x="12765" y="4590"/>
                </a:lnTo>
                <a:lnTo>
                  <a:pt x="16208" y="4590"/>
                </a:lnTo>
                <a:arcTo wR="8198" hR="21600" stAng="1788798" swAng="3470248"/>
                <a:lnTo>
                  <a:pt x="9079" y="21475"/>
                </a:lnTo>
                <a:arcTo wR="8198" hR="21600" stAng="5540953" swAng="5259047"/>
                <a:close/>
              </a:path>
              <a:path fill="darkenLess" w="21600" h="21600">
                <a:moveTo>
                  <a:pt x="0" y="0"/>
                </a:moveTo>
                <a:arcTo wR="8198" hR="21600" stAng="10800000" swAng="-5400000"/>
                <a:lnTo>
                  <a:pt x="9960" y="21600"/>
                </a:lnTo>
                <a:arcTo wR="8198" hR="21600" stAng="5400000" swAng="140953"/>
                <a:lnTo>
                  <a:pt x="9079" y="21475"/>
                </a:lnTo>
                <a:arcTo wR="8198" hR="21600" stAng="5540953" swAng="5259047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ACB-A206-4799-8331-E3D9DFB69C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753080" y="2057400"/>
            <a:ext cx="35701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3C4-A36F-4A59-BB86-7716FE98B6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CI Express is the third-gene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Component Inter-connect technology for a wide range of syste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periph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used in mobile, desktop, workstation,     server and communication platfor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19520" y="4952880"/>
            <a:ext cx="3047760" cy="14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A7F-C9EF-493C-8AC2-973D15CAEF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implements a serial, point-to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al simplex  type interconnec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vides significantly high performanc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igh speed  an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us, compared with predecessor bu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2648160" cy="227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54864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ransmission and reception data 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 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b/s, but it is expected that frequency to double to 5 Gbits/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260-7806-4D59-8FED-FCD549F97C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7600" y="1600200"/>
            <a:ext cx="5068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ultiple P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e interconnected via switch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 large number of de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can be connected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gehter in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range from a          2-port device to an n-port device, where each port connects          to a PCI Express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3DD-48D9-4972-9388-6E1D1B45C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520" y="2362320"/>
            <a:ext cx="8000640" cy="2208600"/>
            <a:chOff x="533520" y="2362320"/>
            <a:chExt cx="8000640" cy="220860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3520" y="2362320"/>
              <a:ext cx="8000640" cy="220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674640" y="2715840"/>
              <a:ext cx="7723800" cy="1364760"/>
              <a:chOff x="674640" y="2715840"/>
              <a:chExt cx="7723800" cy="1364760"/>
            </a:xfrm>
          </p:grpSpPr>
          <p:sp>
            <p:nvSpPr>
              <p:cNvPr id="159" name=""/>
              <p:cNvSpPr/>
              <p:nvPr/>
            </p:nvSpPr>
            <p:spPr>
              <a:xfrm>
                <a:off x="674640" y="2731320"/>
                <a:ext cx="7723800" cy="13492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640" y="2731320"/>
                <a:ext cx="7723800" cy="1135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3040" y="2753280"/>
                <a:ext cx="564120" cy="102744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71480" y="2715840"/>
                <a:ext cx="6352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61960" y="3229560"/>
                <a:ext cx="662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167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183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2438280" y="4343400"/>
            <a:ext cx="35053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198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8F2-8662-4D76-B115-4DD0B893F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CI vs PCI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Throw Away What is Goo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ep I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1752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96252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362320" y="2971800"/>
            <a:ext cx="5181480" cy="1295280"/>
          </a:xfrm>
          <a:custGeom>
            <a:avLst/>
            <a:gdLst>
              <a:gd name="textAreaLeft" fmla="*/ 906480 w 5181480"/>
              <a:gd name="textAreaRight" fmla="*/ 3756600 w 5181480"/>
              <a:gd name="textAreaTop" fmla="*/ 173520 h 1295280"/>
              <a:gd name="textAreaBottom" fmla="*/ 112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1DA-3819-4E96-BC8A-A27595EB2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P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I and PCI-X buses are multi-drop,  parallel, interconnect buses,                       in which many devices share one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0102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1E7-3111-4631-8AD2-42F7F67156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0:32:28Z</dcterms:created>
  <dc:creator>Bojana</dc:creator>
  <dc:description/>
  <dc:language>en-US</dc:language>
  <cp:lastModifiedBy>Bojana</cp:lastModifiedBy>
  <dcterms:modified xsi:type="dcterms:W3CDTF">2005-11-11T16:27:05Z</dcterms:modified>
  <cp:revision>57</cp:revision>
  <dc:subject/>
  <dc:title>Slide 1</dc:title>
</cp:coreProperties>
</file>