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29.jpeg" ContentType="image/jpeg"/>
  <Override PartName="/ppt/media/image3.wmf" ContentType="image/x-wmf"/>
  <Override PartName="/ppt/media/image1.png" ContentType="image/png"/>
  <Override PartName="/ppt/media/image2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A4EF-658F-4F6A-B925-E562E25A7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2E222-AEAC-4291-A180-C84A426A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6285-78FB-4659-B5ED-5B699562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1874-027F-4382-866E-B04173BE21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7665-B943-4025-B30F-4F4607CF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CE34-4579-4260-81E9-667483C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7993-70E6-4483-B212-B7027FF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2EFA-3E7E-4071-A1C7-A6115292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466B2-9058-42B5-B220-461EA433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4338-0CFF-4F84-B89B-D6F43171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FA7A-FAE7-4D73-AEE5-DE717FFE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AF34-CE07-40B2-9262-312CE159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240" y="6477120"/>
            <a:ext cx="2057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ge Number </a:t>
            </a:r>
            <a:fld id="{8FA899BC-FA57-4AE7-8614-8D95B61579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54952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-Government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- Tutorial 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5280" y="411336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ngineering of  the Govern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and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5760" y="54100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1720" y="5460840"/>
            <a:ext cx="406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smina Pilipović, jasminap@beotel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Miodrag Ivković, misa@mnt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Dragan Domaz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Veljko Milutinović, vm@etf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9360" y="1644480"/>
            <a:ext cx="3398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t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f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 saving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man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duced redundanc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91120" y="1905120"/>
            <a:ext cx="4076280" cy="3560400"/>
            <a:chOff x="4191120" y="1905120"/>
            <a:chExt cx="4076280" cy="3560400"/>
          </a:xfrm>
        </p:grpSpPr>
        <p:pic>
          <p:nvPicPr>
            <p:cNvPr id="109" name="CURRENCY" descr=""/>
            <p:cNvPicPr/>
            <p:nvPr/>
          </p:nvPicPr>
          <p:blipFill>
            <a:blip r:embed="rId2"/>
            <a:stretch/>
          </p:blipFill>
          <p:spPr>
            <a:xfrm>
              <a:off x="4191120" y="1905120"/>
              <a:ext cx="4038480" cy="26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"/>
            <p:cNvGrpSpPr/>
            <p:nvPr/>
          </p:nvGrpSpPr>
          <p:grpSpPr>
            <a:xfrm>
              <a:off x="4191120" y="4876920"/>
              <a:ext cx="4076280" cy="588600"/>
              <a:chOff x="4191120" y="4876920"/>
              <a:chExt cx="4076280" cy="588600"/>
            </a:xfrm>
          </p:grpSpPr>
          <p:graphicFrame>
            <p:nvGraphicFramePr>
              <p:cNvPr id="111" name=""/>
              <p:cNvGraphicFramePr/>
              <p:nvPr/>
            </p:nvGraphicFramePr>
            <p:xfrm>
              <a:off x="4191120" y="4876920"/>
              <a:ext cx="754920" cy="588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91120" y="4876920"/>
                        <a:ext cx="754920" cy="58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3" name=""/>
              <p:cNvGraphicFramePr/>
              <p:nvPr/>
            </p:nvGraphicFramePr>
            <p:xfrm>
              <a:off x="6908400" y="4876920"/>
              <a:ext cx="488160" cy="5886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08400" y="4876920"/>
                        <a:ext cx="488160" cy="58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5" name=""/>
              <p:cNvGraphicFramePr/>
              <p:nvPr/>
            </p:nvGraphicFramePr>
            <p:xfrm>
              <a:off x="7512480" y="4876920"/>
              <a:ext cx="754920" cy="588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512480" y="4876920"/>
                        <a:ext cx="754920" cy="58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" name=""/>
              <p:cNvGraphicFramePr/>
              <p:nvPr/>
            </p:nvGraphicFramePr>
            <p:xfrm>
              <a:off x="6002640" y="4876920"/>
              <a:ext cx="754920" cy="5886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02640" y="4876920"/>
                        <a:ext cx="754920" cy="58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9" name=""/>
              <p:cNvGraphicFramePr/>
              <p:nvPr/>
            </p:nvGraphicFramePr>
            <p:xfrm>
              <a:off x="5096880" y="4876920"/>
              <a:ext cx="754920" cy="5886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2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096880" y="4876920"/>
                        <a:ext cx="754920" cy="58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6D8D-DCC2-4336-815F-19B4444A7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7768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echnical Aspects</a:t>
            </a: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7724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ing and developing E-govern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s us a set of both technical and leg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iculties to over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xity of E-government 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presented with a model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ing of several segme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2037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ub-infrastructur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Leg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politica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ra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tandard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rotocol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networ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27AC-F5D2-4E76-BEA5-AA22EFC97A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66880" y="2362320"/>
            <a:ext cx="76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33520" y="1523880"/>
            <a:ext cx="7848360" cy="4953240"/>
            <a:chOff x="533520" y="1523880"/>
            <a:chExt cx="7848360" cy="4953240"/>
          </a:xfrm>
        </p:grpSpPr>
        <p:sp>
          <p:nvSpPr>
            <p:cNvPr id="128" name=""/>
            <p:cNvSpPr/>
            <p:nvPr/>
          </p:nvSpPr>
          <p:spPr>
            <a:xfrm>
              <a:off x="4495680" y="243828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1523880"/>
              <a:ext cx="7848360" cy="4953240"/>
              <a:chOff x="533520" y="1523880"/>
              <a:chExt cx="7848360" cy="4953240"/>
            </a:xfrm>
          </p:grpSpPr>
          <p:sp>
            <p:nvSpPr>
              <p:cNvPr id="130" name=""/>
              <p:cNvSpPr/>
              <p:nvPr/>
            </p:nvSpPr>
            <p:spPr>
              <a:xfrm>
                <a:off x="2666880" y="2057400"/>
                <a:ext cx="36576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gital government applications: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81280" y="243828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10080" y="2438280"/>
                <a:ext cx="0" cy="762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2666880" y="2666880"/>
                <a:ext cx="3657600" cy="368280"/>
                <a:chOff x="2666880" y="2666880"/>
                <a:chExt cx="3657600" cy="368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666880" y="26668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2C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81280" y="26668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2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495680" y="26668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2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410080" y="2666880"/>
                  <a:ext cx="914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G2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533520" y="1523880"/>
                <a:ext cx="7848360" cy="4953240"/>
                <a:chOff x="533520" y="1523880"/>
                <a:chExt cx="7848360" cy="49532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533520" y="1523880"/>
                  <a:ext cx="7848360" cy="4953240"/>
                  <a:chOff x="533520" y="1523880"/>
                  <a:chExt cx="7848360" cy="49532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flipH="1">
                    <a:off x="533520" y="1523880"/>
                    <a:ext cx="39621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495680" y="1523880"/>
                    <a:ext cx="388620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762120" y="2057400"/>
                    <a:ext cx="7391160" cy="4419720"/>
                    <a:chOff x="762120" y="2057400"/>
                    <a:chExt cx="7391160" cy="4419720"/>
                  </a:xfrm>
                </p:grpSpPr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2666880" y="2057400"/>
                      <a:ext cx="3657600" cy="4191120"/>
                      <a:chOff x="2666880" y="2057400"/>
                      <a:chExt cx="3657600" cy="4191120"/>
                    </a:xfrm>
                  </p:grpSpPr>
                  <p:grpSp>
                    <p:nvGrpSpPr>
                      <p:cNvPr id="144" name=""/>
                      <p:cNvGrpSpPr/>
                      <p:nvPr/>
                    </p:nvGrpSpPr>
                    <p:grpSpPr>
                      <a:xfrm>
                        <a:off x="2666880" y="3200400"/>
                        <a:ext cx="3656160" cy="3048120"/>
                        <a:chOff x="2666880" y="3200400"/>
                        <a:chExt cx="3656160" cy="3048120"/>
                      </a:xfrm>
                    </p:grpSpPr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2666880" y="3200400"/>
                          <a:ext cx="3656160" cy="7621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Operating infrastructure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6" name=""/>
                        <p:cNvSpPr/>
                        <p:nvPr/>
                      </p:nvSpPr>
                      <p:spPr>
                        <a:xfrm>
                          <a:off x="2666880" y="3962520"/>
                          <a:ext cx="3656160" cy="7617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Message and information 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delivery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7" name=""/>
                        <p:cNvSpPr/>
                        <p:nvPr/>
                      </p:nvSpPr>
                      <p:spPr>
                        <a:xfrm>
                          <a:off x="2666880" y="4724280"/>
                          <a:ext cx="3656160" cy="7621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Network publishing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infrastructure 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2666880" y="5486400"/>
                          <a:ext cx="3656160" cy="7621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rPr>
                            <a:t>Network infrastructure</a:t>
                          </a: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2666880" y="2438280"/>
                        <a:ext cx="3656160" cy="76212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2666880" y="2057400"/>
                        <a:ext cx="3657600" cy="3808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762120" y="2590920"/>
                      <a:ext cx="7391160" cy="3886200"/>
                      <a:chOff x="762120" y="2590920"/>
                      <a:chExt cx="7391160" cy="388620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990720" y="2590920"/>
                        <a:ext cx="1306440" cy="36576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Legislation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and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official 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olitics 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6629400" y="2590920"/>
                        <a:ext cx="1306440" cy="36576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Technical 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standards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and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network 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protocols </a:t>
                        </a:r>
                        <a:endPara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762120" y="6248520"/>
                        <a:ext cx="7391160" cy="2286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5" name=""/>
                <p:cNvSpPr/>
                <p:nvPr/>
              </p:nvSpPr>
              <p:spPr>
                <a:xfrm>
                  <a:off x="533520" y="2666880"/>
                  <a:ext cx="457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7924680" y="2666880"/>
                  <a:ext cx="457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7F86-C0B3-463F-828D-C94D2B456F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159" name=""/>
            <p:cNvSpPr/>
            <p:nvPr/>
          </p:nvSpPr>
          <p:spPr>
            <a:xfrm>
              <a:off x="7467480" y="2695680"/>
              <a:ext cx="106704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7080120" y="1826640"/>
                  <a:ext cx="1822320" cy="1172520"/>
                  <a:chOff x="7080120" y="1826640"/>
                  <a:chExt cx="1822320" cy="11725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859140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7080120" y="1826640"/>
                    <a:ext cx="1729080" cy="1172520"/>
                    <a:chOff x="7080120" y="1826640"/>
                    <a:chExt cx="1729080" cy="117252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167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168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169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170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1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2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3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75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76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rot="16200000">
                      <a:off x="856764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90280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39360" y="1644120"/>
            <a:ext cx="6675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3" idx="2"/>
            <a:endCxn id="204" idx="0"/>
          </p:cNvCxnSpPr>
          <p:nvPr/>
        </p:nvCxnSpPr>
        <p:spPr>
          <a:xfrm flipV="1" rot="10800000">
            <a:off x="5941440" y="4485240"/>
            <a:ext cx="703800" cy="886680"/>
          </a:xfrm>
          <a:prstGeom prst="bentConnector3">
            <a:avLst>
              <a:gd name="adj1" fmla="val 54810"/>
            </a:avLst>
          </a:prstGeom>
          <a:ln w="0">
            <a:noFill/>
          </a:ln>
        </p:spPr>
      </p:cxnSp>
      <p:grpSp>
        <p:nvGrpSpPr>
          <p:cNvPr id="205" name=""/>
          <p:cNvGrpSpPr/>
          <p:nvPr/>
        </p:nvGrpSpPr>
        <p:grpSpPr>
          <a:xfrm>
            <a:off x="1143000" y="3851640"/>
            <a:ext cx="6275880" cy="2787120"/>
            <a:chOff x="1143000" y="3851640"/>
            <a:chExt cx="6275880" cy="2787120"/>
          </a:xfrm>
        </p:grpSpPr>
        <p:grpSp>
          <p:nvGrpSpPr>
            <p:cNvPr id="206" name=""/>
            <p:cNvGrpSpPr/>
            <p:nvPr/>
          </p:nvGrpSpPr>
          <p:grpSpPr>
            <a:xfrm>
              <a:off x="5638320" y="3851640"/>
              <a:ext cx="1780560" cy="1986480"/>
              <a:chOff x="5638320" y="3851640"/>
              <a:chExt cx="1780560" cy="1986480"/>
            </a:xfrm>
          </p:grpSpPr>
          <p:sp>
            <p:nvSpPr>
              <p:cNvPr id="203" name=""/>
              <p:cNvSpPr/>
              <p:nvPr/>
            </p:nvSpPr>
            <p:spPr>
              <a:xfrm rot="2284800">
                <a:off x="6629040" y="4419360"/>
                <a:ext cx="15228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00ccff"/>
                  </a:gs>
                  <a:gs pos="100000">
                    <a:srgbClr val="3dd7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5638320" y="3851640"/>
                <a:ext cx="1780560" cy="1986480"/>
                <a:chOff x="5638320" y="3851640"/>
                <a:chExt cx="1780560" cy="1986480"/>
              </a:xfrm>
            </p:grpSpPr>
            <p:sp>
              <p:nvSpPr>
                <p:cNvPr id="208" name=""/>
                <p:cNvSpPr/>
                <p:nvPr/>
              </p:nvSpPr>
              <p:spPr>
                <a:xfrm rot="2262000">
                  <a:off x="6705360" y="3962160"/>
                  <a:ext cx="457200" cy="60948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3dd7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638320" y="3851640"/>
                  <a:ext cx="1780560" cy="1986480"/>
                  <a:chOff x="5638320" y="3851640"/>
                  <a:chExt cx="1780560" cy="19864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2256600">
                    <a:off x="6324480" y="4114440"/>
                    <a:ext cx="914400" cy="152280"/>
                  </a:xfrm>
                  <a:prstGeom prst="parallelogram">
                    <a:avLst>
                      <a:gd name="adj" fmla="val 150118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3dd7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2256600">
                    <a:off x="6552720" y="4266720"/>
                    <a:ext cx="914400" cy="152640"/>
                  </a:xfrm>
                  <a:prstGeom prst="parallelogram">
                    <a:avLst>
                      <a:gd name="adj" fmla="val 149764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3dd7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2272200">
                    <a:off x="6933960" y="3886200"/>
                    <a:ext cx="75960" cy="609480"/>
                  </a:xfrm>
                  <a:prstGeom prst="can">
                    <a:avLst>
                      <a:gd name="adj" fmla="val 0"/>
                    </a:avLst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3dd7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13" name=""/>
                  <p:cNvCxnSpPr/>
                  <p:nvPr/>
                </p:nvCxnSpPr>
                <p:spPr>
                  <a:xfrm flipV="1" rot="10800000">
                    <a:off x="5637960" y="4570920"/>
                    <a:ext cx="1008720" cy="1267560"/>
                  </a:xfrm>
                  <a:prstGeom prst="bentConnector3">
                    <a:avLst>
                      <a:gd name="adj1" fmla="val 53373"/>
                    </a:avLst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  <p:grpSp>
          <p:nvGrpSpPr>
            <p:cNvPr id="214" name=""/>
            <p:cNvGrpSpPr/>
            <p:nvPr/>
          </p:nvGrpSpPr>
          <p:grpSpPr>
            <a:xfrm>
              <a:off x="1143000" y="4259160"/>
              <a:ext cx="2352600" cy="2379600"/>
              <a:chOff x="1143000" y="4259160"/>
              <a:chExt cx="2352600" cy="2379600"/>
            </a:xfrm>
          </p:grpSpPr>
          <p:pic>
            <p:nvPicPr>
              <p:cNvPr id="215" name="fgdfg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259160"/>
                <a:ext cx="1523880" cy="14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2209680" y="5029200"/>
                <a:ext cx="1285920" cy="109440"/>
              </a:xfrm>
              <a:custGeom>
                <a:avLst/>
                <a:gdLst/>
                <a:ahLst/>
                <a:rect l="l" t="t" r="r" b="b"/>
                <a:pathLst>
                  <a:path w="320" h="135">
                    <a:moveTo>
                      <a:pt x="0" y="0"/>
                    </a:moveTo>
                    <a:cubicBezTo>
                      <a:pt x="18" y="4"/>
                      <a:pt x="54" y="12"/>
                      <a:pt x="72" y="21"/>
                    </a:cubicBezTo>
                    <a:cubicBezTo>
                      <a:pt x="83" y="27"/>
                      <a:pt x="91" y="38"/>
                      <a:pt x="103" y="42"/>
                    </a:cubicBezTo>
                    <a:cubicBezTo>
                      <a:pt x="130" y="52"/>
                      <a:pt x="186" y="62"/>
                      <a:pt x="186" y="62"/>
                    </a:cubicBezTo>
                    <a:cubicBezTo>
                      <a:pt x="193" y="72"/>
                      <a:pt x="196" y="86"/>
                      <a:pt x="207" y="93"/>
                    </a:cubicBezTo>
                    <a:cubicBezTo>
                      <a:pt x="240" y="114"/>
                      <a:pt x="285" y="116"/>
                      <a:pt x="320" y="13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17" name="ghree" descr=""/>
              <p:cNvPicPr/>
              <p:nvPr/>
            </p:nvPicPr>
            <p:blipFill>
              <a:blip r:embed="rId3"/>
              <a:stretch/>
            </p:blipFill>
            <p:spPr>
              <a:xfrm>
                <a:off x="1981080" y="5638680"/>
                <a:ext cx="5716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2438280" y="5845320"/>
                <a:ext cx="960480" cy="403200"/>
              </a:xfrm>
              <a:custGeom>
                <a:avLst/>
                <a:gdLst/>
                <a:ahLst/>
                <a:rect l="l" t="t" r="r" b="b"/>
                <a:pathLst>
                  <a:path w="476" h="279">
                    <a:moveTo>
                      <a:pt x="0" y="279"/>
                    </a:moveTo>
                    <a:cubicBezTo>
                      <a:pt x="37" y="153"/>
                      <a:pt x="38" y="187"/>
                      <a:pt x="187" y="176"/>
                    </a:cubicBezTo>
                    <a:cubicBezTo>
                      <a:pt x="243" y="158"/>
                      <a:pt x="275" y="178"/>
                      <a:pt x="311" y="124"/>
                    </a:cubicBezTo>
                    <a:cubicBezTo>
                      <a:pt x="318" y="90"/>
                      <a:pt x="314" y="59"/>
                      <a:pt x="352" y="42"/>
                    </a:cubicBezTo>
                    <a:cubicBezTo>
                      <a:pt x="377" y="31"/>
                      <a:pt x="476" y="42"/>
                      <a:pt x="476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200400" y="4419720"/>
              <a:ext cx="2760840" cy="1904760"/>
              <a:chOff x="3200400" y="4419720"/>
              <a:chExt cx="2760840" cy="19047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200400" y="4419720"/>
                <a:ext cx="2743200" cy="1904760"/>
                <a:chOff x="3200400" y="4419720"/>
                <a:chExt cx="2743200" cy="19047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200400" y="4419720"/>
                  <a:ext cx="2743200" cy="1904760"/>
                </a:xfrm>
                <a:prstGeom prst="cloudCallout">
                  <a:avLst>
                    <a:gd name="adj1" fmla="val 9550"/>
                    <a:gd name="adj2" fmla="val 46166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5e75"/>
                    </a:gs>
                  </a:gsLst>
                  <a:lin ang="5400000"/>
                </a:gra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657600" y="4952880"/>
                  <a:ext cx="838080" cy="685800"/>
                </a:xfrm>
                <a:prstGeom prst="cloudCallout">
                  <a:avLst>
                    <a:gd name="adj1" fmla="val -39773"/>
                    <a:gd name="adj2" fmla="val -27083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5e75"/>
                    </a:gs>
                  </a:gsLst>
                  <a:lin ang="5400000"/>
                </a:gra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105520" y="5105520"/>
                  <a:ext cx="838080" cy="685800"/>
                </a:xfrm>
                <a:prstGeom prst="cloudCallout">
                  <a:avLst>
                    <a:gd name="adj1" fmla="val -31819"/>
                    <a:gd name="adj2" fmla="val -12731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5e75"/>
                    </a:gs>
                  </a:gsLst>
                  <a:lin ang="5400000"/>
                </a:gra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495680" y="4572000"/>
                  <a:ext cx="838440" cy="685800"/>
                </a:xfrm>
                <a:prstGeom prst="cloudCallout">
                  <a:avLst>
                    <a:gd name="adj1" fmla="val -49620"/>
                    <a:gd name="adj2" fmla="val 25694"/>
                  </a:avLst>
                </a:prstGeom>
                <a:gradFill rotWithShape="0">
                  <a:gsLst>
                    <a:gs pos="0">
                      <a:srgbClr val="00ccff"/>
                    </a:gs>
                    <a:gs pos="100000">
                      <a:srgbClr val="005e75"/>
                    </a:gs>
                  </a:gsLst>
                  <a:lin ang="5400000"/>
                </a:gradFill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554280" y="4724280"/>
                <a:ext cx="2406960" cy="916920"/>
                <a:chOff x="3554280" y="4724280"/>
                <a:chExt cx="2406960" cy="916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554280" y="5105520"/>
                  <a:ext cx="93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029200" y="5334120"/>
                  <a:ext cx="932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496400" y="4724280"/>
                  <a:ext cx="960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etwork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4267080" y="5402160"/>
                <a:ext cx="949320" cy="617760"/>
              </a:xfrm>
              <a:custGeom>
                <a:avLst/>
                <a:gdLst/>
                <a:ahLst/>
                <a:rect l="l" t="t" r="r" b="b"/>
                <a:pathLst>
                  <a:path w="598" h="389">
                    <a:moveTo>
                      <a:pt x="33" y="83"/>
                    </a:moveTo>
                    <a:cubicBezTo>
                      <a:pt x="36" y="152"/>
                      <a:pt x="0" y="236"/>
                      <a:pt x="43" y="290"/>
                    </a:cubicBezTo>
                    <a:cubicBezTo>
                      <a:pt x="73" y="328"/>
                      <a:pt x="144" y="299"/>
                      <a:pt x="188" y="279"/>
                    </a:cubicBezTo>
                    <a:cubicBezTo>
                      <a:pt x="208" y="270"/>
                      <a:pt x="208" y="217"/>
                      <a:pt x="208" y="217"/>
                    </a:cubicBezTo>
                    <a:cubicBezTo>
                      <a:pt x="185" y="121"/>
                      <a:pt x="200" y="111"/>
                      <a:pt x="105" y="134"/>
                    </a:cubicBezTo>
                    <a:cubicBezTo>
                      <a:pt x="118" y="386"/>
                      <a:pt x="51" y="303"/>
                      <a:pt x="198" y="352"/>
                    </a:cubicBezTo>
                    <a:cubicBezTo>
                      <a:pt x="212" y="357"/>
                      <a:pt x="225" y="365"/>
                      <a:pt x="239" y="372"/>
                    </a:cubicBezTo>
                    <a:cubicBezTo>
                      <a:pt x="267" y="369"/>
                      <a:pt x="314" y="389"/>
                      <a:pt x="322" y="362"/>
                    </a:cubicBezTo>
                    <a:cubicBezTo>
                      <a:pt x="417" y="59"/>
                      <a:pt x="230" y="95"/>
                      <a:pt x="405" y="52"/>
                    </a:cubicBezTo>
                    <a:cubicBezTo>
                      <a:pt x="598" y="62"/>
                      <a:pt x="591" y="0"/>
                      <a:pt x="591" y="8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92680" y="4740120"/>
                <a:ext cx="574560" cy="235080"/>
              </a:xfrm>
              <a:custGeom>
                <a:avLst/>
                <a:gdLst/>
                <a:ahLst/>
                <a:rect l="l" t="t" r="r" b="b"/>
                <a:pathLst>
                  <a:path w="362" h="148">
                    <a:moveTo>
                      <a:pt x="0" y="148"/>
                    </a:moveTo>
                    <a:cubicBezTo>
                      <a:pt x="96" y="138"/>
                      <a:pt x="111" y="138"/>
                      <a:pt x="165" y="65"/>
                    </a:cubicBezTo>
                    <a:cubicBezTo>
                      <a:pt x="167" y="59"/>
                      <a:pt x="190" y="9"/>
                      <a:pt x="165" y="3"/>
                    </a:cubicBezTo>
                    <a:cubicBezTo>
                      <a:pt x="153" y="0"/>
                      <a:pt x="144" y="17"/>
                      <a:pt x="134" y="24"/>
                    </a:cubicBezTo>
                    <a:cubicBezTo>
                      <a:pt x="161" y="136"/>
                      <a:pt x="268" y="90"/>
                      <a:pt x="362" y="45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270400" y="4729320"/>
                <a:ext cx="411120" cy="409320"/>
              </a:xfrm>
              <a:custGeom>
                <a:avLst/>
                <a:gdLst/>
                <a:ahLst/>
                <a:rect l="l" t="t" r="r" b="b"/>
                <a:pathLst>
                  <a:path w="259" h="258">
                    <a:moveTo>
                      <a:pt x="0" y="0"/>
                    </a:moveTo>
                    <a:cubicBezTo>
                      <a:pt x="54" y="9"/>
                      <a:pt x="81" y="12"/>
                      <a:pt x="125" y="41"/>
                    </a:cubicBezTo>
                    <a:cubicBezTo>
                      <a:pt x="148" y="89"/>
                      <a:pt x="167" y="108"/>
                      <a:pt x="218" y="124"/>
                    </a:cubicBezTo>
                    <a:cubicBezTo>
                      <a:pt x="225" y="114"/>
                      <a:pt x="233" y="104"/>
                      <a:pt x="238" y="93"/>
                    </a:cubicBezTo>
                    <a:cubicBezTo>
                      <a:pt x="243" y="83"/>
                      <a:pt x="259" y="66"/>
                      <a:pt x="249" y="62"/>
                    </a:cubicBezTo>
                    <a:cubicBezTo>
                      <a:pt x="230" y="54"/>
                      <a:pt x="208" y="69"/>
                      <a:pt x="187" y="72"/>
                    </a:cubicBezTo>
                    <a:cubicBezTo>
                      <a:pt x="147" y="130"/>
                      <a:pt x="124" y="129"/>
                      <a:pt x="166" y="196"/>
                    </a:cubicBezTo>
                    <a:cubicBezTo>
                      <a:pt x="173" y="207"/>
                      <a:pt x="187" y="210"/>
                      <a:pt x="197" y="217"/>
                    </a:cubicBezTo>
                    <a:cubicBezTo>
                      <a:pt x="208" y="251"/>
                      <a:pt x="207" y="237"/>
                      <a:pt x="207" y="25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9720" y="2057400"/>
            <a:ext cx="6675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networks connected toge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hardware techn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underlying communication technolo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superhigh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814D0-9789-4AE9-8207-FA245B0AF7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234" name=""/>
            <p:cNvSpPr/>
            <p:nvPr/>
          </p:nvSpPr>
          <p:spPr>
            <a:xfrm>
              <a:off x="7467480" y="2486160"/>
              <a:ext cx="106704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7080120" y="1826640"/>
                  <a:ext cx="1822320" cy="1172520"/>
                  <a:chOff x="7080120" y="1826640"/>
                  <a:chExt cx="1822320" cy="117252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59140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080120" y="1826640"/>
                    <a:ext cx="1729080" cy="1172520"/>
                    <a:chOff x="7080120" y="1826640"/>
                    <a:chExt cx="1729080" cy="1172520"/>
                  </a:xfrm>
                </p:grpSpPr>
                <p:grpSp>
                  <p:nvGrpSpPr>
                    <p:cNvPr id="240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241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242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243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244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245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6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7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8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49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1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7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rot="16200000">
                      <a:off x="856764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5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90280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5948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76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39720" y="1644120"/>
            <a:ext cx="5913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ublis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15840" y="4419720"/>
            <a:ext cx="7673400" cy="2196720"/>
            <a:chOff x="915840" y="4419720"/>
            <a:chExt cx="7673400" cy="2196720"/>
          </a:xfrm>
        </p:grpSpPr>
        <p:grpSp>
          <p:nvGrpSpPr>
            <p:cNvPr id="279" name=""/>
            <p:cNvGrpSpPr/>
            <p:nvPr/>
          </p:nvGrpSpPr>
          <p:grpSpPr>
            <a:xfrm>
              <a:off x="915840" y="5029200"/>
              <a:ext cx="7673400" cy="368280"/>
              <a:chOff x="915840" y="5029200"/>
              <a:chExt cx="7673400" cy="368280"/>
            </a:xfrm>
          </p:grpSpPr>
          <p:sp>
            <p:nvSpPr>
              <p:cNvPr id="280" name=""/>
              <p:cNvSpPr/>
              <p:nvPr/>
            </p:nvSpPr>
            <p:spPr>
              <a:xfrm>
                <a:off x="915840" y="5029200"/>
                <a:ext cx="100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LIEN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69640" y="5029200"/>
                <a:ext cx="111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350800" y="4419720"/>
              <a:ext cx="4995000" cy="2196720"/>
              <a:chOff x="2350800" y="4419720"/>
              <a:chExt cx="4995000" cy="219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3124080" y="4419720"/>
                <a:ext cx="3429000" cy="457200"/>
              </a:xfrm>
              <a:prstGeom prst="rightArrow">
                <a:avLst>
                  <a:gd name="adj1" fmla="val 50000"/>
                  <a:gd name="adj2" fmla="val 1875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TT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50800" y="5029200"/>
                <a:ext cx="499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he client sends HTTP message to a comput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unning a Web Server program and asks for a docum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0800000">
                <a:off x="3047760" y="5562720"/>
                <a:ext cx="3429000" cy="457200"/>
              </a:xfrm>
              <a:prstGeom prst="rightArrow">
                <a:avLst>
                  <a:gd name="adj1" fmla="val 50000"/>
                  <a:gd name="adj2" fmla="val 1875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42800" y="5639040"/>
                <a:ext cx="1608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NFORM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6880" y="6096240"/>
                <a:ext cx="3439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he Web server sends the hypermedi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TML documents to the clien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9720" y="2055960"/>
            <a:ext cx="5913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ility to present text, images, video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audio cont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tools and languages for desig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server archite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ic and dynamic contents of WW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B603-2B34-47B2-BBD9-6D8BD7607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291" name=""/>
            <p:cNvSpPr/>
            <p:nvPr/>
          </p:nvSpPr>
          <p:spPr>
            <a:xfrm>
              <a:off x="7477200" y="2266920"/>
              <a:ext cx="106668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7080120" y="1826640"/>
                  <a:ext cx="1821960" cy="1172520"/>
                  <a:chOff x="7080120" y="1826640"/>
                  <a:chExt cx="1821960" cy="117252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859104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7080120" y="1826640"/>
                    <a:ext cx="1728720" cy="1172520"/>
                    <a:chOff x="7080120" y="1826640"/>
                    <a:chExt cx="1728720" cy="1172520"/>
                  </a:xfrm>
                </p:grpSpPr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298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299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300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301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302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07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08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09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3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14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315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6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7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8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19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16200000">
                      <a:off x="856728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2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90244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748260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8443080" y="228996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33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39720" y="1644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and information delive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9720" y="205596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490320" indent="-1886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arch engines and algorith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ivery of both unstructured and structured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structured delivery via faxes and e-ma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ic interchange of structured inform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ror and control hand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6EDE-45F9-4E44-A278-EC47AB63C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338" name=""/>
            <p:cNvSpPr/>
            <p:nvPr/>
          </p:nvSpPr>
          <p:spPr>
            <a:xfrm>
              <a:off x="7467480" y="2057400"/>
              <a:ext cx="106704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7080120" y="1826640"/>
                  <a:ext cx="1822320" cy="1172520"/>
                  <a:chOff x="7080120" y="1826640"/>
                  <a:chExt cx="1822320" cy="117252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859140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7080120" y="1826640"/>
                    <a:ext cx="1729080" cy="1172520"/>
                    <a:chOff x="7080120" y="1826640"/>
                    <a:chExt cx="1729080" cy="1172520"/>
                  </a:xfrm>
                </p:grpSpPr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346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347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348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349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0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1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2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53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54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5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1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66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rot="16200000">
                      <a:off x="856764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9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90280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36920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80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39720" y="155268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infrastructu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39720" y="2009880"/>
            <a:ext cx="77724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c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vernments need to protect citizens’ privac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lem of involuntarily provided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9720" y="31068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ection of data - stored and during trans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9720" y="3930480"/>
            <a:ext cx="77724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dentity of parties in a transaction is verifi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9720" y="4753080"/>
            <a:ext cx="77724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dentialit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eavesdrop on the transaction in prog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2D4B-65B1-47CE-AB7D-5D13583B1F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388" name=""/>
            <p:cNvSpPr/>
            <p:nvPr/>
          </p:nvSpPr>
          <p:spPr>
            <a:xfrm>
              <a:off x="7467480" y="2057400"/>
              <a:ext cx="106704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391" name=""/>
                <p:cNvGrpSpPr/>
                <p:nvPr/>
              </p:nvGrpSpPr>
              <p:grpSpPr>
                <a:xfrm>
                  <a:off x="7080120" y="1826640"/>
                  <a:ext cx="1822320" cy="1172520"/>
                  <a:chOff x="7080120" y="1826640"/>
                  <a:chExt cx="1822320" cy="117252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859140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7080120" y="1826640"/>
                    <a:ext cx="1729080" cy="1172520"/>
                    <a:chOff x="7080120" y="1826640"/>
                    <a:chExt cx="1729080" cy="1172520"/>
                  </a:xfrm>
                </p:grpSpPr>
                <p:grpSp>
                  <p:nvGrpSpPr>
                    <p:cNvPr id="394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395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396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397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398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399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0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1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2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3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04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05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06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8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1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412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5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16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 rot="16200000">
                      <a:off x="856764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19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90280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6920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30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39360" y="1644120"/>
            <a:ext cx="5684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etary system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14400" y="2133720"/>
            <a:ext cx="5684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most widely used way of purchasi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 the Internet is Credit C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Cash is informational equivalent of physical bank notes and co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Cash can offer such benefits 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onymity of the buy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 acceptance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 will be domina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at least the next few ye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7B42-C822-46B0-A33D-BE76E102C7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435" name=""/>
            <p:cNvSpPr/>
            <p:nvPr/>
          </p:nvSpPr>
          <p:spPr>
            <a:xfrm>
              <a:off x="7467480" y="1828800"/>
              <a:ext cx="1067040" cy="22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7080120" y="1826640"/>
                  <a:ext cx="1821960" cy="1172520"/>
                  <a:chOff x="7080120" y="1826640"/>
                  <a:chExt cx="1821960" cy="117252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859104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7080120" y="1826640"/>
                    <a:ext cx="1728720" cy="1172520"/>
                    <a:chOff x="7080120" y="1826640"/>
                    <a:chExt cx="1728720" cy="1172520"/>
                  </a:xfrm>
                </p:grpSpPr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442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443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444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445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446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7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8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49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50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51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52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53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63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rot="16200000">
                      <a:off x="856728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66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890244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748260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   B   E   G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6200000">
                <a:off x="8443080" y="228996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77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39360" y="1644120"/>
            <a:ext cx="72090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government 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2209680"/>
            <a:ext cx="7209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es: G2G, G2E, G2B, B2G, G2C, C2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 services for citizens and busines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governmental and employees communication, managing digital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vernment intranet as basic communicational, informational, and organizational t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D717-F16B-4344-B990-34A3CD3D30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Will You Learn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om This Tutorial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is E-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35053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PEC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infrastructure of E-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GOVERNMENT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examples that could be implemen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7305-8D62-42E7-954A-2C4703002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946920" y="1552680"/>
            <a:ext cx="2133720" cy="1450080"/>
            <a:chOff x="6946920" y="1552680"/>
            <a:chExt cx="2133720" cy="1450080"/>
          </a:xfrm>
        </p:grpSpPr>
        <p:sp>
          <p:nvSpPr>
            <p:cNvPr id="482" name=""/>
            <p:cNvSpPr/>
            <p:nvPr/>
          </p:nvSpPr>
          <p:spPr>
            <a:xfrm>
              <a:off x="7086600" y="1919160"/>
              <a:ext cx="311040" cy="1005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6946920" y="1552680"/>
              <a:ext cx="2133720" cy="1450080"/>
              <a:chOff x="6946920" y="1552680"/>
              <a:chExt cx="2133720" cy="145008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6946920" y="1552680"/>
                <a:ext cx="2133720" cy="1447200"/>
                <a:chOff x="6946920" y="1552680"/>
                <a:chExt cx="2133720" cy="1447200"/>
              </a:xfrm>
            </p:grpSpPr>
            <p:grpSp>
              <p:nvGrpSpPr>
                <p:cNvPr id="485" name=""/>
                <p:cNvGrpSpPr/>
                <p:nvPr/>
              </p:nvGrpSpPr>
              <p:grpSpPr>
                <a:xfrm>
                  <a:off x="7080120" y="1827360"/>
                  <a:ext cx="1822680" cy="1172520"/>
                  <a:chOff x="7080120" y="1827360"/>
                  <a:chExt cx="1822680" cy="117252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>
                    <a:off x="8591400" y="1919160"/>
                    <a:ext cx="311400" cy="10051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7080120" y="1827360"/>
                    <a:ext cx="1729080" cy="1172520"/>
                    <a:chOff x="7080120" y="1827360"/>
                    <a:chExt cx="1729080" cy="1172520"/>
                  </a:xfrm>
                </p:grpSpPr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7462800" y="1827360"/>
                      <a:ext cx="1066680" cy="1172520"/>
                      <a:chOff x="7462800" y="1827360"/>
                      <a:chExt cx="1066680" cy="1172520"/>
                    </a:xfrm>
                  </p:grpSpPr>
                  <p:grpSp>
                    <p:nvGrpSpPr>
                      <p:cNvPr id="489" name=""/>
                      <p:cNvGrpSpPr/>
                      <p:nvPr/>
                    </p:nvGrpSpPr>
                    <p:grpSpPr>
                      <a:xfrm>
                        <a:off x="7462800" y="1827360"/>
                        <a:ext cx="1066680" cy="1096560"/>
                        <a:chOff x="7462800" y="1827360"/>
                        <a:chExt cx="1066680" cy="1096560"/>
                      </a:xfrm>
                    </p:grpSpPr>
                    <p:grpSp>
                      <p:nvGrpSpPr>
                        <p:cNvPr id="490" name=""/>
                        <p:cNvGrpSpPr/>
                        <p:nvPr/>
                      </p:nvGrpSpPr>
                      <p:grpSpPr>
                        <a:xfrm>
                          <a:off x="7462800" y="1827360"/>
                          <a:ext cx="1066680" cy="1096560"/>
                          <a:chOff x="7462800" y="1827360"/>
                          <a:chExt cx="1066680" cy="1096560"/>
                        </a:xfrm>
                      </p:grpSpPr>
                      <p:grpSp>
                        <p:nvGrpSpPr>
                          <p:cNvPr id="491" name=""/>
                          <p:cNvGrpSpPr/>
                          <p:nvPr/>
                        </p:nvGrpSpPr>
                        <p:grpSpPr>
                          <a:xfrm>
                            <a:off x="7462800" y="1827360"/>
                            <a:ext cx="1066680" cy="1096560"/>
                            <a:chOff x="7462800" y="1827360"/>
                            <a:chExt cx="1066680" cy="1096560"/>
                          </a:xfrm>
                        </p:grpSpPr>
                        <p:grpSp>
                          <p:nvGrpSpPr>
                            <p:cNvPr id="492" name=""/>
                            <p:cNvGrpSpPr/>
                            <p:nvPr/>
                          </p:nvGrpSpPr>
                          <p:grpSpPr>
                            <a:xfrm>
                              <a:off x="7462800" y="1827360"/>
                              <a:ext cx="1066680" cy="1096560"/>
                              <a:chOff x="7462800" y="1827360"/>
                              <a:chExt cx="1066680" cy="1096560"/>
                            </a:xfrm>
                          </p:grpSpPr>
                          <p:sp>
                            <p:nvSpPr>
                              <p:cNvPr id="493" name=""/>
                              <p:cNvSpPr/>
                              <p:nvPr/>
                            </p:nvSpPr>
                            <p:spPr>
                              <a:xfrm>
                                <a:off x="7462800" y="1827360"/>
                                <a:ext cx="1066680" cy="109656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4" name=""/>
                              <p:cNvSpPr/>
                              <p:nvPr/>
                            </p:nvSpPr>
                            <p:spPr>
                              <a:xfrm>
                                <a:off x="7462800" y="204516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5" name=""/>
                              <p:cNvSpPr/>
                              <p:nvPr/>
                            </p:nvSpPr>
                            <p:spPr>
                              <a:xfrm>
                                <a:off x="7462800" y="22651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6" name=""/>
                              <p:cNvSpPr/>
                              <p:nvPr/>
                            </p:nvSpPr>
                            <p:spPr>
                              <a:xfrm>
                                <a:off x="7462800" y="24840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97" name=""/>
                              <p:cNvSpPr/>
                              <p:nvPr/>
                            </p:nvSpPr>
                            <p:spPr>
                              <a:xfrm>
                                <a:off x="7462800" y="270288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498" name=""/>
                            <p:cNvSpPr/>
                            <p:nvPr/>
                          </p:nvSpPr>
                          <p:spPr>
                            <a:xfrm>
                              <a:off x="7728480" y="182736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95240" y="182736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0" name=""/>
                          <p:cNvSpPr/>
                          <p:nvPr/>
                        </p:nvSpPr>
                        <p:spPr>
                          <a:xfrm>
                            <a:off x="8262720" y="182736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7462800" y="182736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7803360" y="182736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8066520" y="182736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>
                          <a:off x="8338680" y="182736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7891560" y="2055600"/>
                        <a:ext cx="222840" cy="944280"/>
                        <a:chOff x="7891560" y="2055600"/>
                        <a:chExt cx="222840" cy="94428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7943400" y="2055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918920" y="229716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911720" y="25124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891560" y="269532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10" name=""/>
                    <p:cNvSpPr/>
                    <p:nvPr/>
                  </p:nvSpPr>
                  <p:spPr>
                    <a:xfrm rot="16200000">
                      <a:off x="6970680" y="2203200"/>
                      <a:ext cx="458640" cy="87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7080120" y="1919160"/>
                      <a:ext cx="311400" cy="1005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16200000">
                      <a:off x="8567640" y="2246040"/>
                      <a:ext cx="39672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13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013600" y="1552680"/>
                  <a:ext cx="106704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902800" y="1963800"/>
                  <a:ext cx="1778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24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11120" y="16002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slative and official politic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oducing digital e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o conducting governmental and commercial task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 opening an important ques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idering legal protection and oblig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12960" y="377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35680" y="3657600"/>
            <a:ext cx="7076880" cy="2914200"/>
            <a:chOff x="535680" y="3657600"/>
            <a:chExt cx="7076880" cy="2914200"/>
          </a:xfrm>
        </p:grpSpPr>
        <p:sp>
          <p:nvSpPr>
            <p:cNvPr id="528" name=""/>
            <p:cNvSpPr/>
            <p:nvPr/>
          </p:nvSpPr>
          <p:spPr>
            <a:xfrm>
              <a:off x="3352680" y="4647960"/>
              <a:ext cx="2362320" cy="1219320"/>
            </a:xfrm>
            <a:prstGeom prst="cloudCallout">
              <a:avLst>
                <a:gd name="adj1" fmla="val 14986"/>
                <a:gd name="adj2" fmla="val 36717"/>
              </a:avLst>
            </a:prstGeom>
            <a:gradFill rotWithShape="0">
              <a:gsLst>
                <a:gs pos="0">
                  <a:srgbClr val="00ccff"/>
                </a:gs>
                <a:gs pos="100000">
                  <a:srgbClr val="005e75"/>
                </a:gs>
              </a:gsLst>
              <a:lin ang="5400000"/>
            </a:gra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E-govern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892400">
              <a:off x="2133720" y="4267080"/>
              <a:ext cx="167616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7be3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-infrastruct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3094400">
              <a:off x="5485680" y="4419000"/>
              <a:ext cx="1676520" cy="6098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7be3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-busin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1576600">
              <a:off x="3580920" y="5943600"/>
              <a:ext cx="1676520" cy="60948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00ccff"/>
                </a:gs>
                <a:gs pos="50000">
                  <a:srgbClr val="7be3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-democrac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6443600">
              <a:off x="4349880" y="3422520"/>
              <a:ext cx="520560" cy="1447920"/>
            </a:xfrm>
            <a:custGeom>
              <a:avLst/>
              <a:gdLst>
                <a:gd name="textAreaLeft" fmla="*/ 69480 w 520560"/>
                <a:gd name="textAreaRight" fmla="*/ 451080 w 520560"/>
                <a:gd name="textAreaTop" fmla="*/ 253440 h 1447920"/>
                <a:gd name="textAreaBottom" fmla="*/ 1049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b1e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6120" y="365760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-serv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01520" y="556236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-polit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5680" y="5257800"/>
              <a:ext cx="18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-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155200">
              <a:off x="5638680" y="5105160"/>
              <a:ext cx="520920" cy="1447920"/>
            </a:xfrm>
            <a:custGeom>
              <a:avLst/>
              <a:gdLst>
                <a:gd name="textAreaLeft" fmla="*/ 69480 w 520920"/>
                <a:gd name="textAreaRight" fmla="*/ 451440 w 520920"/>
                <a:gd name="textAreaTop" fmla="*/ 253440 h 1447920"/>
                <a:gd name="textAreaBottom" fmla="*/ 1049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b1e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8704800">
              <a:off x="2590920" y="5104800"/>
              <a:ext cx="520560" cy="1447920"/>
            </a:xfrm>
            <a:custGeom>
              <a:avLst/>
              <a:gdLst>
                <a:gd name="textAreaLeft" fmla="*/ 69480 w 520560"/>
                <a:gd name="textAreaRight" fmla="*/ 451080 w 520560"/>
                <a:gd name="textAreaTop" fmla="*/ 253440 h 1447920"/>
                <a:gd name="textAreaBottom" fmla="*/ 104976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b1e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466C-5EDE-49CA-A7F5-7C3EA27355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6946920" y="1552680"/>
            <a:ext cx="2133720" cy="1450080"/>
            <a:chOff x="6946920" y="1552680"/>
            <a:chExt cx="2133720" cy="1450080"/>
          </a:xfrm>
        </p:grpSpPr>
        <p:sp>
          <p:nvSpPr>
            <p:cNvPr id="540" name=""/>
            <p:cNvSpPr/>
            <p:nvPr/>
          </p:nvSpPr>
          <p:spPr>
            <a:xfrm>
              <a:off x="7086600" y="1919160"/>
              <a:ext cx="311040" cy="1005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6946920" y="1552680"/>
              <a:ext cx="2133720" cy="1450080"/>
              <a:chOff x="6946920" y="1552680"/>
              <a:chExt cx="2133720" cy="145008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6946920" y="1552680"/>
                <a:ext cx="2133720" cy="1447200"/>
                <a:chOff x="6946920" y="1552680"/>
                <a:chExt cx="2133720" cy="144720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080120" y="1827360"/>
                  <a:ext cx="1822680" cy="1172520"/>
                  <a:chOff x="7080120" y="1827360"/>
                  <a:chExt cx="1822680" cy="117252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8591400" y="1919160"/>
                    <a:ext cx="311400" cy="10051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7080120" y="1827360"/>
                    <a:ext cx="1729080" cy="1172520"/>
                    <a:chOff x="7080120" y="1827360"/>
                    <a:chExt cx="1729080" cy="117252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7462800" y="1827360"/>
                      <a:ext cx="1066680" cy="1172520"/>
                      <a:chOff x="7462800" y="1827360"/>
                      <a:chExt cx="1066680" cy="1172520"/>
                    </a:xfrm>
                  </p:grpSpPr>
                  <p:grpSp>
                    <p:nvGrpSpPr>
                      <p:cNvPr id="547" name=""/>
                      <p:cNvGrpSpPr/>
                      <p:nvPr/>
                    </p:nvGrpSpPr>
                    <p:grpSpPr>
                      <a:xfrm>
                        <a:off x="7462800" y="1827360"/>
                        <a:ext cx="1066680" cy="1096560"/>
                        <a:chOff x="7462800" y="1827360"/>
                        <a:chExt cx="1066680" cy="1096560"/>
                      </a:xfrm>
                    </p:grpSpPr>
                    <p:grpSp>
                      <p:nvGrpSpPr>
                        <p:cNvPr id="548" name=""/>
                        <p:cNvGrpSpPr/>
                        <p:nvPr/>
                      </p:nvGrpSpPr>
                      <p:grpSpPr>
                        <a:xfrm>
                          <a:off x="7462800" y="1827360"/>
                          <a:ext cx="1066680" cy="1096560"/>
                          <a:chOff x="7462800" y="1827360"/>
                          <a:chExt cx="1066680" cy="1096560"/>
                        </a:xfrm>
                      </p:grpSpPr>
                      <p:grpSp>
                        <p:nvGrpSpPr>
                          <p:cNvPr id="549" name=""/>
                          <p:cNvGrpSpPr/>
                          <p:nvPr/>
                        </p:nvGrpSpPr>
                        <p:grpSpPr>
                          <a:xfrm>
                            <a:off x="7462800" y="1827360"/>
                            <a:ext cx="1066680" cy="1096560"/>
                            <a:chOff x="7462800" y="1827360"/>
                            <a:chExt cx="1066680" cy="1096560"/>
                          </a:xfrm>
                        </p:grpSpPr>
                        <p:grpSp>
                          <p:nvGrpSpPr>
                            <p:cNvPr id="550" name=""/>
                            <p:cNvGrpSpPr/>
                            <p:nvPr/>
                          </p:nvGrpSpPr>
                          <p:grpSpPr>
                            <a:xfrm>
                              <a:off x="7462800" y="1827360"/>
                              <a:ext cx="1066680" cy="1096560"/>
                              <a:chOff x="7462800" y="1827360"/>
                              <a:chExt cx="1066680" cy="1096560"/>
                            </a:xfrm>
                          </p:grpSpPr>
                          <p:sp>
                            <p:nvSpPr>
                              <p:cNvPr id="551" name=""/>
                              <p:cNvSpPr/>
                              <p:nvPr/>
                            </p:nvSpPr>
                            <p:spPr>
                              <a:xfrm>
                                <a:off x="7462800" y="1827360"/>
                                <a:ext cx="1066680" cy="109656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"/>
                              <p:cNvSpPr/>
                              <p:nvPr/>
                            </p:nvSpPr>
                            <p:spPr>
                              <a:xfrm>
                                <a:off x="7462800" y="204516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"/>
                              <p:cNvSpPr/>
                              <p:nvPr/>
                            </p:nvSpPr>
                            <p:spPr>
                              <a:xfrm>
                                <a:off x="7462800" y="22651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"/>
                              <p:cNvSpPr/>
                              <p:nvPr/>
                            </p:nvSpPr>
                            <p:spPr>
                              <a:xfrm>
                                <a:off x="7462800" y="24840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"/>
                              <p:cNvSpPr/>
                              <p:nvPr/>
                            </p:nvSpPr>
                            <p:spPr>
                              <a:xfrm>
                                <a:off x="7462800" y="270288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56" name=""/>
                            <p:cNvSpPr/>
                            <p:nvPr/>
                          </p:nvSpPr>
                          <p:spPr>
                            <a:xfrm>
                              <a:off x="7728480" y="182736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57" name=""/>
                            <p:cNvSpPr/>
                            <p:nvPr/>
                          </p:nvSpPr>
                          <p:spPr>
                            <a:xfrm>
                              <a:off x="7995240" y="182736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58" name=""/>
                          <p:cNvSpPr/>
                          <p:nvPr/>
                        </p:nvSpPr>
                        <p:spPr>
                          <a:xfrm>
                            <a:off x="8262720" y="182736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7462800" y="182736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7803360" y="182736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1" name=""/>
                        <p:cNvSpPr/>
                        <p:nvPr/>
                      </p:nvSpPr>
                      <p:spPr>
                        <a:xfrm>
                          <a:off x="8066520" y="182736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2" name=""/>
                        <p:cNvSpPr/>
                        <p:nvPr/>
                      </p:nvSpPr>
                      <p:spPr>
                        <a:xfrm>
                          <a:off x="8338680" y="182736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63" name=""/>
                      <p:cNvGrpSpPr/>
                      <p:nvPr/>
                    </p:nvGrpSpPr>
                    <p:grpSpPr>
                      <a:xfrm>
                        <a:off x="7891560" y="2055600"/>
                        <a:ext cx="222840" cy="944280"/>
                        <a:chOff x="7891560" y="2055600"/>
                        <a:chExt cx="222840" cy="944280"/>
                      </a:xfrm>
                    </p:grpSpPr>
                    <p:sp>
                      <p:nvSpPr>
                        <p:cNvPr id="564" name=""/>
                        <p:cNvSpPr/>
                        <p:nvPr/>
                      </p:nvSpPr>
                      <p:spPr>
                        <a:xfrm>
                          <a:off x="7943400" y="2055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5" name=""/>
                        <p:cNvSpPr/>
                        <p:nvPr/>
                      </p:nvSpPr>
                      <p:spPr>
                        <a:xfrm>
                          <a:off x="7918920" y="229716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6" name=""/>
                        <p:cNvSpPr/>
                        <p:nvPr/>
                      </p:nvSpPr>
                      <p:spPr>
                        <a:xfrm>
                          <a:off x="7911720" y="25124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7" name=""/>
                        <p:cNvSpPr/>
                        <p:nvPr/>
                      </p:nvSpPr>
                      <p:spPr>
                        <a:xfrm>
                          <a:off x="7891560" y="269532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68" name=""/>
                    <p:cNvSpPr/>
                    <p:nvPr/>
                  </p:nvSpPr>
                  <p:spPr>
                    <a:xfrm rot="16200000">
                      <a:off x="6970680" y="2203200"/>
                      <a:ext cx="458640" cy="87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7080120" y="1919160"/>
                      <a:ext cx="311400" cy="1005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16200000">
                      <a:off x="8567640" y="2246040"/>
                      <a:ext cx="39672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1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013600" y="1552680"/>
                  <a:ext cx="106704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902800" y="1963800"/>
                  <a:ext cx="1778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748296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6200000">
                <a:off x="8443080" y="229032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582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39720" y="1644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9720" y="205596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ior and inside attacks and misusa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espionage and sabot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w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angering rights and freedoms of citiz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uption and organized cr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omical and financial malversa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llectual proper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opolization in managing government affair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533C-070E-41BF-94B7-1FE38B2FB0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6946920" y="1552680"/>
            <a:ext cx="2133360" cy="1450080"/>
            <a:chOff x="6946920" y="1552680"/>
            <a:chExt cx="2133360" cy="1450080"/>
          </a:xfrm>
        </p:grpSpPr>
        <p:sp>
          <p:nvSpPr>
            <p:cNvPr id="587" name=""/>
            <p:cNvSpPr/>
            <p:nvPr/>
          </p:nvSpPr>
          <p:spPr>
            <a:xfrm>
              <a:off x="8591400" y="1919160"/>
              <a:ext cx="311400" cy="1005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6946920" y="1552680"/>
              <a:ext cx="2133360" cy="1450080"/>
              <a:chOff x="6946920" y="1552680"/>
              <a:chExt cx="2133360" cy="145008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6946920" y="1552680"/>
                <a:ext cx="2133360" cy="1446480"/>
                <a:chOff x="6946920" y="1552680"/>
                <a:chExt cx="2133360" cy="144648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7080120" y="1826640"/>
                  <a:ext cx="1821960" cy="1172520"/>
                  <a:chOff x="7080120" y="1826640"/>
                  <a:chExt cx="1821960" cy="117252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8591040" y="1918080"/>
                    <a:ext cx="311040" cy="100548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7080120" y="1826640"/>
                    <a:ext cx="1728720" cy="1172520"/>
                    <a:chOff x="7080120" y="1826640"/>
                    <a:chExt cx="1728720" cy="117252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7463520" y="1826640"/>
                      <a:ext cx="1066680" cy="1172520"/>
                      <a:chOff x="7463520" y="1826640"/>
                      <a:chExt cx="1066680" cy="1172520"/>
                    </a:xfrm>
                  </p:grpSpPr>
                  <p:grpSp>
                    <p:nvGrpSpPr>
                      <p:cNvPr id="594" name=""/>
                      <p:cNvGrpSpPr/>
                      <p:nvPr/>
                    </p:nvGrpSpPr>
                    <p:grpSpPr>
                      <a:xfrm>
                        <a:off x="7463520" y="1826640"/>
                        <a:ext cx="1066680" cy="1096920"/>
                        <a:chOff x="7463520" y="1826640"/>
                        <a:chExt cx="1066680" cy="1096920"/>
                      </a:xfrm>
                    </p:grpSpPr>
                    <p:grpSp>
                      <p:nvGrpSpPr>
                        <p:cNvPr id="595" name=""/>
                        <p:cNvGrpSpPr/>
                        <p:nvPr/>
                      </p:nvGrpSpPr>
                      <p:grpSpPr>
                        <a:xfrm>
                          <a:off x="7463520" y="1826640"/>
                          <a:ext cx="1066680" cy="1096920"/>
                          <a:chOff x="7463520" y="1826640"/>
                          <a:chExt cx="1066680" cy="1096920"/>
                        </a:xfrm>
                      </p:grpSpPr>
                      <p:grpSp>
                        <p:nvGrpSpPr>
                          <p:cNvPr id="596" name=""/>
                          <p:cNvGrpSpPr/>
                          <p:nvPr/>
                        </p:nvGrpSpPr>
                        <p:grpSpPr>
                          <a:xfrm>
                            <a:off x="7463520" y="1826640"/>
                            <a:ext cx="1066680" cy="1096920"/>
                            <a:chOff x="7463520" y="1826640"/>
                            <a:chExt cx="1066680" cy="1096920"/>
                          </a:xfrm>
                        </p:grpSpPr>
                        <p:grpSp>
                          <p:nvGrpSpPr>
                            <p:cNvPr id="597" name=""/>
                            <p:cNvGrpSpPr/>
                            <p:nvPr/>
                          </p:nvGrpSpPr>
                          <p:grpSpPr>
                            <a:xfrm>
                              <a:off x="7463520" y="1826640"/>
                              <a:ext cx="1066680" cy="1096920"/>
                              <a:chOff x="7463520" y="1826640"/>
                              <a:chExt cx="1066680" cy="1096920"/>
                            </a:xfrm>
                          </p:grpSpPr>
                          <p:sp>
                            <p:nvSpPr>
                              <p:cNvPr id="598" name=""/>
                              <p:cNvSpPr/>
                              <p:nvPr/>
                            </p:nvSpPr>
                            <p:spPr>
                              <a:xfrm>
                                <a:off x="7463520" y="1826640"/>
                                <a:ext cx="1066680" cy="109692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9" name=""/>
                              <p:cNvSpPr/>
                              <p:nvPr/>
                            </p:nvSpPr>
                            <p:spPr>
                              <a:xfrm>
                                <a:off x="7463520" y="20444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0" name=""/>
                              <p:cNvSpPr/>
                              <p:nvPr/>
                            </p:nvSpPr>
                            <p:spPr>
                              <a:xfrm>
                                <a:off x="7463520" y="226440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1" name=""/>
                              <p:cNvSpPr/>
                              <p:nvPr/>
                            </p:nvSpPr>
                            <p:spPr>
                              <a:xfrm>
                                <a:off x="7463520" y="248364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2" name=""/>
                              <p:cNvSpPr/>
                              <p:nvPr/>
                            </p:nvSpPr>
                            <p:spPr>
                              <a:xfrm>
                                <a:off x="7463520" y="2702520"/>
                                <a:ext cx="1066680" cy="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ffffff"/>
                                </a:solidFill>
                                <a:prstDash val="dashDot"/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ffffff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03" name=""/>
                            <p:cNvSpPr/>
                            <p:nvPr/>
                          </p:nvSpPr>
                          <p:spPr>
                            <a:xfrm>
                              <a:off x="772920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>
                              <a:off x="7995960" y="1826640"/>
                              <a:ext cx="0" cy="22824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fffff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05" name=""/>
                          <p:cNvSpPr/>
                          <p:nvPr/>
                        </p:nvSpPr>
                        <p:spPr>
                          <a:xfrm>
                            <a:off x="8263440" y="1826640"/>
                            <a:ext cx="0" cy="22824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7463520" y="1826640"/>
                          <a:ext cx="320400" cy="36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780408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8067240" y="1826640"/>
                          <a:ext cx="17136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8339400" y="182664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0" name=""/>
                      <p:cNvGrpSpPr/>
                      <p:nvPr/>
                    </p:nvGrpSpPr>
                    <p:grpSpPr>
                      <a:xfrm>
                        <a:off x="7892280" y="2054880"/>
                        <a:ext cx="222840" cy="944280"/>
                        <a:chOff x="7892280" y="2054880"/>
                        <a:chExt cx="222840" cy="944280"/>
                      </a:xfrm>
                    </p:grpSpPr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7944120" y="205488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7919640" y="2296440"/>
                          <a:ext cx="172080" cy="2739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7912440" y="2511720"/>
                          <a:ext cx="17208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7892280" y="2694600"/>
                          <a:ext cx="171000" cy="304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15" name=""/>
                    <p:cNvSpPr/>
                    <p:nvPr/>
                  </p:nvSpPr>
                  <p:spPr>
                    <a:xfrm rot="16200000">
                      <a:off x="6970320" y="2203200"/>
                      <a:ext cx="45900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7080120" y="1918080"/>
                      <a:ext cx="311040" cy="1005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rot="16200000">
                      <a:off x="8567280" y="2245680"/>
                      <a:ext cx="397080" cy="8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240" bIns="39240" anchor="t" vert="eaVer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18" name=""/>
                <p:cNvSpPr/>
                <p:nvPr/>
              </p:nvSpPr>
              <p:spPr>
                <a:xfrm flipV="1">
                  <a:off x="694692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013600" y="1552680"/>
                  <a:ext cx="1066680" cy="41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902440" y="1963800"/>
                  <a:ext cx="177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6946920" y="1963800"/>
                  <a:ext cx="13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7482600" y="269568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405560" y="2467080"/>
                <a:ext cx="127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UBLISH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482240" y="223848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LIVER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405560" y="2009880"/>
                <a:ext cx="1238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PERATING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9800" y="178128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   B   E   G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6200000">
                <a:off x="6960240" y="230292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AW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6200000">
                <a:off x="8443080" y="228996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29" name=""/>
          <p:cNvCxnSpPr/>
          <p:nvPr/>
        </p:nvCxnSpPr>
        <p:spPr>
          <a:xfrm flipV="1" rot="10800000">
            <a:off x="6320880" y="4104360"/>
            <a:ext cx="629280" cy="1076760"/>
          </a:xfrm>
          <a:prstGeom prst="bentConnector3">
            <a:avLst>
              <a:gd name="adj1" fmla="val 55294"/>
            </a:avLst>
          </a:prstGeom>
          <a:ln w="0">
            <a:noFill/>
          </a:ln>
        </p:spPr>
      </p:cxn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639360" y="1644480"/>
            <a:ext cx="705636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standards and network protocol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echnical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pec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39720" y="4133880"/>
            <a:ext cx="53802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ies participating in E-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ontinually moni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and imple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emerging standard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9720" y="2057400"/>
            <a:ext cx="70563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/IP as the network protoc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TP and IMAP for mail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DAP for Directory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for delivery of client transactions and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D52A-9F7B-4DDA-A71A-24420B6C72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258552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"/>
          <p:cNvGrpSpPr/>
          <p:nvPr/>
        </p:nvGrpSpPr>
        <p:grpSpPr>
          <a:xfrm>
            <a:off x="4724280" y="3733920"/>
            <a:ext cx="2743200" cy="2895480"/>
            <a:chOff x="4724280" y="3733920"/>
            <a:chExt cx="2743200" cy="2895480"/>
          </a:xfrm>
        </p:grpSpPr>
        <p:pic>
          <p:nvPicPr>
            <p:cNvPr id="636" name="untitled" descr=""/>
            <p:cNvPicPr/>
            <p:nvPr/>
          </p:nvPicPr>
          <p:blipFill>
            <a:blip r:embed="rId2"/>
            <a:stretch/>
          </p:blipFill>
          <p:spPr>
            <a:xfrm>
              <a:off x="5486400" y="4038480"/>
              <a:ext cx="11970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7" name=""/>
            <p:cNvGrpSpPr/>
            <p:nvPr/>
          </p:nvGrpSpPr>
          <p:grpSpPr>
            <a:xfrm>
              <a:off x="4724280" y="3733920"/>
              <a:ext cx="2743200" cy="2895480"/>
              <a:chOff x="4724280" y="3733920"/>
              <a:chExt cx="2743200" cy="2895480"/>
            </a:xfrm>
          </p:grpSpPr>
          <p:pic>
            <p:nvPicPr>
              <p:cNvPr id="638" name="EARTH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4280" y="3733920"/>
                <a:ext cx="2743200" cy="20066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639" name=""/>
              <p:cNvGraphicFramePr/>
              <p:nvPr/>
            </p:nvGraphicFramePr>
            <p:xfrm>
              <a:off x="5257800" y="3962520"/>
              <a:ext cx="1938240" cy="2666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4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257800" y="3962520"/>
                        <a:ext cx="1938240" cy="2666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ndreds of applications that could be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llow businesses, citizens, and other govern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nteract with the Government digital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9480" y="2971800"/>
            <a:ext cx="53341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t least four distinct aspects of digital governme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formation gather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teractive service deli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Online supply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igital democra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F72C-B695-49AE-A9A7-3F07A39442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639360" y="1644480"/>
            <a:ext cx="659916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 gathe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39720" y="2055960"/>
            <a:ext cx="65991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tizens could have an insight on various types of information, such 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vernment services, agencies, and employe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 calendars, statistics, new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ight and train sche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ful lin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9516-60DA-45CC-A99C-DD4F1F24F92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4c99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austr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8736-CD9D-4863-82D6-3E71C9B1F8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39720" y="1644480"/>
            <a:ext cx="644688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 dissemination proble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9720" y="2055960"/>
            <a:ext cx="644688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standardized information tagging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anding the amount of accessible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“expert systems” to access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ke the Web the first place to put information, not the l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2850-79EE-4258-8AE4-76D38F0DC8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39360" y="1644480"/>
            <a:ext cx="76662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active service delive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9720" y="2055960"/>
            <a:ext cx="76662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ing permits and licenses, as well as renewing th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es and individuals could file tax returns directly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no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nies could file environmental compliance forms onl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viduals could apply for Social Security benefits onlin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ing tickets, bills, memberships,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1F64-D139-4BE7-B0F8-F593A79D17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59b2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epost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55" name="move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D192-2FD2-46D1-A27F-22334E9BFA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Will You Learn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om This Tutorial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TW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A, RSA, Digital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TO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Certificates, 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258C-23E0-4704-90F1-BBB3C888A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39720" y="1644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39720" y="205596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1" marL="438120" indent="-168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and and standardiz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umber of applications for online 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ever possible use Web based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line forms should use shared inform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ubmit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 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intergovernmental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38120" indent="-1684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156A-4170-4D44-A544-07B348B429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609120" y="2286000"/>
            <a:ext cx="766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 of items citizens and business partne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purchase on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E-commerce countries can move to the cent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virtual geograph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aboration with distributors and suppliers on schedul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ecasting, and just-in-time replenishment of suppl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2000" y="1797120"/>
            <a:ext cx="7666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ine supply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2B33A-0E0A-421E-94EF-64E29757FE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4993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kanada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63" name="katalog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7041-6DC5-432F-8CE9-2AB97257497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39720" y="1644120"/>
            <a:ext cx="73915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democrac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gital Government 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9720" y="2055960"/>
            <a:ext cx="73915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1" marL="519840" indent="-199800">
              <a:lnSpc>
                <a:spcPct val="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 between citizens and author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ess to reports, plans, and  memorandu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t ro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cation between government employe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A39C-FE1F-4185-AD48-0033ABAE9F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50a0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uk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68" name="uk3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B382-11CF-4D86-9001-414B1BCBA0D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nd of Part 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5760" y="54100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71720" y="5460840"/>
            <a:ext cx="406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smina Pilipović, jasminap@beotel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Miodrag Ivković, misa@mnt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Dragan Domaz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Veljko Milutinović, vm@etf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rt Tw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3915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techniq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0" y="2133720"/>
            <a:ext cx="9141840" cy="1039320"/>
            <a:chOff x="0" y="2133720"/>
            <a:chExt cx="9141840" cy="1039320"/>
          </a:xfrm>
        </p:grpSpPr>
        <p:grpSp>
          <p:nvGrpSpPr>
            <p:cNvPr id="677" name=""/>
            <p:cNvGrpSpPr/>
            <p:nvPr/>
          </p:nvGrpSpPr>
          <p:grpSpPr>
            <a:xfrm>
              <a:off x="382680" y="2438280"/>
              <a:ext cx="8759160" cy="734760"/>
              <a:chOff x="382680" y="2438280"/>
              <a:chExt cx="8759160" cy="734760"/>
            </a:xfrm>
          </p:grpSpPr>
          <p:sp>
            <p:nvSpPr>
              <p:cNvPr id="678" name=""/>
              <p:cNvSpPr/>
              <p:nvPr/>
            </p:nvSpPr>
            <p:spPr>
              <a:xfrm>
                <a:off x="2133720" y="281916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82680" y="2666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TRANSPO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87800" y="2438280"/>
                <a:ext cx="60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K=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81" name=""/>
              <p:cNvGrpSpPr/>
              <p:nvPr/>
            </p:nvGrpSpPr>
            <p:grpSpPr>
              <a:xfrm>
                <a:off x="3201840" y="2438280"/>
                <a:ext cx="3259080" cy="734760"/>
                <a:chOff x="3201840" y="2438280"/>
                <a:chExt cx="3259080" cy="73476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201840" y="2438280"/>
                  <a:ext cx="320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569040" y="262044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934080" y="280476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299120" y="2620440"/>
                  <a:ext cx="34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665600" y="243828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031000" y="262044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P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395680" y="2804760"/>
                  <a:ext cx="35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761080" y="262044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3300"/>
                      </a:solidFill>
                      <a:latin typeface="Arial"/>
                    </a:rPr>
                    <a:t>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27920" y="2438280"/>
                  <a:ext cx="33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1" name=""/>
              <p:cNvSpPr/>
              <p:nvPr/>
            </p:nvSpPr>
            <p:spPr>
              <a:xfrm>
                <a:off x="6553080" y="28191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539120" y="2666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TSE</a:t>
                </a: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NPS</a:t>
                </a:r>
                <a:r>
                  <a:rPr b="1" lang="en-US" sz="1800" spc="-1" strike="noStrike">
                    <a:solidFill>
                      <a:srgbClr val="00ff00"/>
                    </a:solidFill>
                    <a:latin typeface="Arial"/>
                  </a:rPr>
                  <a:t>A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0" y="2133720"/>
              <a:ext cx="464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nsposition cipher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60" y="3200400"/>
            <a:ext cx="7554960" cy="596880"/>
            <a:chOff x="360" y="3200400"/>
            <a:chExt cx="7554960" cy="596880"/>
          </a:xfrm>
        </p:grpSpPr>
        <p:grpSp>
          <p:nvGrpSpPr>
            <p:cNvPr id="695" name=""/>
            <p:cNvGrpSpPr/>
            <p:nvPr/>
          </p:nvGrpSpPr>
          <p:grpSpPr>
            <a:xfrm>
              <a:off x="2896920" y="3200400"/>
              <a:ext cx="4658400" cy="596880"/>
              <a:chOff x="2896920" y="3200400"/>
              <a:chExt cx="4658400" cy="5968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6920" y="3429000"/>
                <a:ext cx="161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SUBSTITUT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54440" y="35812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08520" y="3200400"/>
                <a:ext cx="60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K=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8480" y="3429000"/>
                <a:ext cx="189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VXEVWLWXWH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360" y="3429000"/>
              <a:ext cx="246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bstitution cipher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0" y="4114800"/>
            <a:ext cx="9141840" cy="685800"/>
            <a:chOff x="0" y="4114800"/>
            <a:chExt cx="9141840" cy="685800"/>
          </a:xfrm>
        </p:grpSpPr>
        <p:grpSp>
          <p:nvGrpSpPr>
            <p:cNvPr id="702" name=""/>
            <p:cNvGrpSpPr/>
            <p:nvPr/>
          </p:nvGrpSpPr>
          <p:grpSpPr>
            <a:xfrm>
              <a:off x="2937600" y="4114800"/>
              <a:ext cx="6204240" cy="685800"/>
              <a:chOff x="2937600" y="4114800"/>
              <a:chExt cx="6204240" cy="685800"/>
            </a:xfrm>
          </p:grpSpPr>
          <p:sp>
            <p:nvSpPr>
              <p:cNvPr id="703" name=""/>
              <p:cNvSpPr/>
              <p:nvPr/>
            </p:nvSpPr>
            <p:spPr>
              <a:xfrm>
                <a:off x="2937600" y="4343400"/>
                <a:ext cx="8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US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29320" y="45720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048280" y="4191120"/>
                <a:ext cx="1828800" cy="6094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CRYPTOGRA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182000" y="45720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981600" y="4114800"/>
                <a:ext cx="685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258320" y="4114800"/>
                <a:ext cx="685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327160" y="4343400"/>
                <a:ext cx="81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US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0" y="43434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mmetric encryption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0" y="5257800"/>
            <a:ext cx="9204840" cy="685800"/>
            <a:chOff x="0" y="5257800"/>
            <a:chExt cx="9204840" cy="685800"/>
          </a:xfrm>
        </p:grpSpPr>
        <p:sp>
          <p:nvSpPr>
            <p:cNvPr id="712" name=""/>
            <p:cNvSpPr/>
            <p:nvPr/>
          </p:nvSpPr>
          <p:spPr>
            <a:xfrm>
              <a:off x="0" y="548640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ymmetric encryption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874240" y="5257800"/>
              <a:ext cx="6330600" cy="685800"/>
              <a:chOff x="2874240" y="5257800"/>
              <a:chExt cx="633060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2874240" y="548640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USER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828960" y="571500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047920" y="5334120"/>
                <a:ext cx="1828800" cy="6094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CRYPTOGRA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1640" y="57150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981240" y="5257800"/>
                <a:ext cx="685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K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57960" y="5257800"/>
                <a:ext cx="685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ff3300"/>
                    </a:solidFill>
                    <a:latin typeface="Arial"/>
                  </a:rPr>
                  <a:t>K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263800" y="5486400"/>
                <a:ext cx="941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USER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38B0E-6353-4D1C-B030-89D168DB69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-key encryp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-79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nnon: confusion and diff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-79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form encryption (module arithmeti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-79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-time pad (random key gener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-79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 (Data Encryption Standard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BM &amp; National Bureau of Standards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7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8DF0-64C0-467B-ADFF-53CAD53551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Will You Learn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rom This Tutorial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THRE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EXAMPLES AND CASE STUDIES IN THE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Governments experiences, University 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ATEGY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ning of E-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968C-DCA7-4ED2-9633-2D8E430979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56ac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762120" y="228600"/>
            <a:ext cx="6248160" cy="6400800"/>
            <a:chOff x="762120" y="228600"/>
            <a:chExt cx="6248160" cy="6400800"/>
          </a:xfrm>
        </p:grpSpPr>
        <p:sp>
          <p:nvSpPr>
            <p:cNvPr id="724" name=""/>
            <p:cNvSpPr/>
            <p:nvPr/>
          </p:nvSpPr>
          <p:spPr>
            <a:xfrm>
              <a:off x="762120" y="2286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 (64 bit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14600" y="914400"/>
              <a:ext cx="167652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5680" y="914400"/>
              <a:ext cx="16732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86000" y="2590920"/>
              <a:ext cx="22114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24280" y="2590920"/>
              <a:ext cx="22100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f(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, 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24640" y="2711520"/>
              <a:ext cx="245880" cy="228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86200" y="228600"/>
              <a:ext cx="9144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76720" y="762120"/>
              <a:ext cx="1904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81480" y="7621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76720" y="7621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343400" y="6094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7672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8148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7" name=""/>
            <p:cNvCxnSpPr>
              <a:stCxn id="738" idx="0"/>
            </p:cNvCxnSpPr>
            <p:nvPr/>
          </p:nvCxnSpPr>
          <p:spPr>
            <a:xfrm>
              <a:off x="5181120" y="1949040"/>
              <a:ext cx="1080" cy="337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739" name=""/>
            <p:cNvCxnSpPr>
              <a:endCxn id="735" idx="0"/>
            </p:cNvCxnSpPr>
            <p:nvPr/>
          </p:nvCxnSpPr>
          <p:spPr>
            <a:xfrm flipH="1">
              <a:off x="3276000" y="2285640"/>
              <a:ext cx="1905480" cy="1530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740" name=""/>
            <p:cNvSpPr/>
            <p:nvPr/>
          </p:nvSpPr>
          <p:spPr>
            <a:xfrm>
              <a:off x="3308400" y="2057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1" name=""/>
            <p:cNvCxnSpPr>
              <a:stCxn id="740" idx="0"/>
              <a:endCxn id="736" idx="0"/>
            </p:cNvCxnSpPr>
            <p:nvPr/>
          </p:nvCxnSpPr>
          <p:spPr>
            <a:xfrm>
              <a:off x="3308040" y="2209320"/>
              <a:ext cx="1873800" cy="2293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grpSp>
          <p:nvGrpSpPr>
            <p:cNvPr id="742" name=""/>
            <p:cNvGrpSpPr/>
            <p:nvPr/>
          </p:nvGrpSpPr>
          <p:grpSpPr>
            <a:xfrm>
              <a:off x="3200400" y="1371600"/>
              <a:ext cx="3505320" cy="838080"/>
              <a:chOff x="3200400" y="1371600"/>
              <a:chExt cx="3505320" cy="838080"/>
            </a:xfrm>
          </p:grpSpPr>
          <p:sp>
            <p:nvSpPr>
              <p:cNvPr id="743" name=""/>
              <p:cNvSpPr/>
              <p:nvPr/>
            </p:nvSpPr>
            <p:spPr>
              <a:xfrm>
                <a:off x="4038480" y="167616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200400" y="182880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3317760" y="13716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429000" y="19526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72000" y="19526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5181480" y="1371600"/>
                <a:ext cx="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095880" y="1523880"/>
                <a:ext cx="609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4952520" y="1676160"/>
                <a:ext cx="1219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51" name=""/>
              <p:cNvCxnSpPr>
                <a:stCxn id="750" idx="0"/>
                <a:endCxn id="743" idx="7"/>
              </p:cNvCxnSpPr>
              <p:nvPr/>
            </p:nvCxnSpPr>
            <p:spPr>
              <a:xfrm flipH="1">
                <a:off x="4493880" y="1676160"/>
                <a:ext cx="459360" cy="78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752" name=""/>
            <p:cNvSpPr/>
            <p:nvPr/>
          </p:nvSpPr>
          <p:spPr>
            <a:xfrm>
              <a:off x="2286000" y="3886200"/>
              <a:ext cx="22114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62440" y="3886200"/>
              <a:ext cx="22478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f(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, 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624640" y="4006800"/>
              <a:ext cx="245880" cy="228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76720" y="3048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76720" y="3276720"/>
              <a:ext cx="1981080" cy="3045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81480" y="3581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181480" y="3048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276360" y="3276720"/>
              <a:ext cx="1904760" cy="30456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76720" y="35812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200400" y="4343400"/>
              <a:ext cx="3505320" cy="838080"/>
              <a:chOff x="3200400" y="4343400"/>
              <a:chExt cx="3505320" cy="838080"/>
            </a:xfrm>
          </p:grpSpPr>
          <p:sp>
            <p:nvSpPr>
              <p:cNvPr id="762" name=""/>
              <p:cNvSpPr/>
              <p:nvPr/>
            </p:nvSpPr>
            <p:spPr>
              <a:xfrm>
                <a:off x="4038480" y="4647960"/>
                <a:ext cx="533520" cy="533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0400" y="4800600"/>
                <a:ext cx="22860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3317760" y="434340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9000" y="49244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572000" y="492444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5181480" y="4343400"/>
                <a:ext cx="0" cy="57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095880" y="4495680"/>
                <a:ext cx="609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16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4952520" y="4647960"/>
                <a:ext cx="1219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70" name=""/>
              <p:cNvCxnSpPr>
                <a:stCxn id="769" idx="0"/>
                <a:endCxn id="762" idx="7"/>
              </p:cNvCxnSpPr>
              <p:nvPr/>
            </p:nvCxnSpPr>
            <p:spPr>
              <a:xfrm flipH="1">
                <a:off x="4493880" y="4647960"/>
                <a:ext cx="459360" cy="784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sp>
          <p:nvSpPr>
            <p:cNvPr id="771" name=""/>
            <p:cNvSpPr/>
            <p:nvPr/>
          </p:nvSpPr>
          <p:spPr>
            <a:xfrm>
              <a:off x="2286000" y="5334120"/>
              <a:ext cx="221148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f(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, 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724280" y="5334120"/>
              <a:ext cx="221004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= 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0400" y="5452920"/>
              <a:ext cx="246240" cy="228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7760" y="502920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81480" y="4952880"/>
              <a:ext cx="0" cy="38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19520" y="4572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62520" y="6248520"/>
              <a:ext cx="9144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52680" y="601992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3352680" y="5790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181480" y="57909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43400" y="6019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76920" y="64008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99400" y="6208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E9E1-209B-419B-A816-9FC7723B4B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4c99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212760" y="762120"/>
            <a:ext cx="8321760" cy="5130000"/>
            <a:chOff x="212760" y="762120"/>
            <a:chExt cx="8321760" cy="5130000"/>
          </a:xfrm>
        </p:grpSpPr>
        <p:sp>
          <p:nvSpPr>
            <p:cNvPr id="785" name=""/>
            <p:cNvSpPr/>
            <p:nvPr/>
          </p:nvSpPr>
          <p:spPr>
            <a:xfrm>
              <a:off x="4038480" y="7621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 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i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72000" y="12193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3962520" y="1676520"/>
              <a:ext cx="2361600" cy="1371600"/>
              <a:chOff x="3962520" y="1676520"/>
              <a:chExt cx="2361600" cy="137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3962520" y="1676520"/>
                <a:ext cx="1218960" cy="304560"/>
              </a:xfrm>
              <a:prstGeom prst="flowChartAlternateProcess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XPAN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572000" y="198108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419360" y="2438280"/>
                <a:ext cx="22824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4647600" y="2558880"/>
                <a:ext cx="99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790960" y="2362320"/>
                <a:ext cx="533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 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538520" y="26668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1141560" y="3106800"/>
              <a:ext cx="5941800" cy="380880"/>
              <a:chOff x="1141560" y="3106800"/>
              <a:chExt cx="5941800" cy="38088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141560" y="3106800"/>
                <a:ext cx="457200" cy="380880"/>
                <a:chOff x="1141560" y="3106800"/>
                <a:chExt cx="457200" cy="3808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1415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2333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240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4158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5080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5987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6626160" y="3106800"/>
                <a:ext cx="457200" cy="380880"/>
                <a:chOff x="6626160" y="3106800"/>
                <a:chExt cx="457200" cy="3808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66261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7179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8086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9004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9926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70833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2055960" y="3106800"/>
                <a:ext cx="457200" cy="380880"/>
                <a:chOff x="2055960" y="3106800"/>
                <a:chExt cx="457200" cy="38088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20559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1477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2384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3302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4224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5131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711760" y="3106800"/>
                <a:ext cx="457200" cy="380880"/>
                <a:chOff x="5711760" y="3106800"/>
                <a:chExt cx="457200" cy="38088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57117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8035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8942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9860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0782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1689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2970360" y="3106800"/>
                <a:ext cx="457200" cy="380880"/>
                <a:chOff x="2970360" y="3106800"/>
                <a:chExt cx="457200" cy="38088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29703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0621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1528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2446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3368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4275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3884760" y="3106800"/>
                <a:ext cx="457200" cy="380880"/>
                <a:chOff x="3884760" y="3106800"/>
                <a:chExt cx="457200" cy="38088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38847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9765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0672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1590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42512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3419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4799160" y="3106800"/>
                <a:ext cx="457200" cy="380880"/>
                <a:chOff x="4799160" y="3106800"/>
                <a:chExt cx="457200" cy="3808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47991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8909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9816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07348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16564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256360" y="3106800"/>
                  <a:ext cx="0" cy="380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4" name=""/>
            <p:cNvGrpSpPr/>
            <p:nvPr/>
          </p:nvGrpSpPr>
          <p:grpSpPr>
            <a:xfrm>
              <a:off x="7540560" y="3106800"/>
              <a:ext cx="457200" cy="380880"/>
              <a:chOff x="7540560" y="3106800"/>
              <a:chExt cx="457200" cy="380880"/>
            </a:xfrm>
          </p:grpSpPr>
          <p:sp>
            <p:nvSpPr>
              <p:cNvPr id="845" name=""/>
              <p:cNvSpPr/>
              <p:nvPr/>
            </p:nvSpPr>
            <p:spPr>
              <a:xfrm>
                <a:off x="754056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63236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2308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81488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90704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997760" y="310680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838080" y="3106800"/>
              <a:ext cx="7391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00476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1916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3356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74652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6092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7532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48972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04120" y="3505320"/>
              <a:ext cx="685800" cy="38088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1219320" y="3930480"/>
              <a:ext cx="274680" cy="381240"/>
              <a:chOff x="1219320" y="3930480"/>
              <a:chExt cx="274680" cy="381240"/>
            </a:xfrm>
          </p:grpSpPr>
          <p:sp>
            <p:nvSpPr>
              <p:cNvPr id="861" name=""/>
              <p:cNvSpPr/>
              <p:nvPr/>
            </p:nvSpPr>
            <p:spPr>
              <a:xfrm>
                <a:off x="121932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114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4018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4940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2128680" y="3930480"/>
              <a:ext cx="274680" cy="381240"/>
              <a:chOff x="2128680" y="3930480"/>
              <a:chExt cx="274680" cy="381240"/>
            </a:xfrm>
          </p:grpSpPr>
          <p:sp>
            <p:nvSpPr>
              <p:cNvPr id="866" name=""/>
              <p:cNvSpPr/>
              <p:nvPr/>
            </p:nvSpPr>
            <p:spPr>
              <a:xfrm>
                <a:off x="21286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208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3112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4033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3043080" y="3930480"/>
              <a:ext cx="274680" cy="381240"/>
              <a:chOff x="3043080" y="3930480"/>
              <a:chExt cx="274680" cy="381240"/>
            </a:xfrm>
          </p:grpSpPr>
          <p:sp>
            <p:nvSpPr>
              <p:cNvPr id="871" name=""/>
              <p:cNvSpPr/>
              <p:nvPr/>
            </p:nvSpPr>
            <p:spPr>
              <a:xfrm>
                <a:off x="30430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352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2256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177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3043080" y="3930480"/>
              <a:ext cx="274680" cy="381240"/>
              <a:chOff x="3043080" y="3930480"/>
              <a:chExt cx="274680" cy="381240"/>
            </a:xfrm>
          </p:grpSpPr>
          <p:sp>
            <p:nvSpPr>
              <p:cNvPr id="876" name=""/>
              <p:cNvSpPr/>
              <p:nvPr/>
            </p:nvSpPr>
            <p:spPr>
              <a:xfrm>
                <a:off x="30430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1352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2256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3177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3957480" y="3930480"/>
              <a:ext cx="274680" cy="381240"/>
              <a:chOff x="3957480" y="3930480"/>
              <a:chExt cx="274680" cy="381240"/>
            </a:xfrm>
          </p:grpSpPr>
          <p:sp>
            <p:nvSpPr>
              <p:cNvPr id="881" name=""/>
              <p:cNvSpPr/>
              <p:nvPr/>
            </p:nvSpPr>
            <p:spPr>
              <a:xfrm>
                <a:off x="39574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0496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400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2321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4871880" y="3930480"/>
              <a:ext cx="274680" cy="381240"/>
              <a:chOff x="4871880" y="3930480"/>
              <a:chExt cx="274680" cy="381240"/>
            </a:xfrm>
          </p:grpSpPr>
          <p:sp>
            <p:nvSpPr>
              <p:cNvPr id="886" name=""/>
              <p:cNvSpPr/>
              <p:nvPr/>
            </p:nvSpPr>
            <p:spPr>
              <a:xfrm>
                <a:off x="487188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9640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544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465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5784840" y="3930480"/>
              <a:ext cx="274680" cy="381240"/>
              <a:chOff x="5784840" y="3930480"/>
              <a:chExt cx="274680" cy="381240"/>
            </a:xfrm>
          </p:grpSpPr>
          <p:sp>
            <p:nvSpPr>
              <p:cNvPr id="891" name=""/>
              <p:cNvSpPr/>
              <p:nvPr/>
            </p:nvSpPr>
            <p:spPr>
              <a:xfrm>
                <a:off x="57848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770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9673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05952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699240" y="3930480"/>
              <a:ext cx="274680" cy="381240"/>
              <a:chOff x="6699240" y="3930480"/>
              <a:chExt cx="274680" cy="381240"/>
            </a:xfrm>
          </p:grpSpPr>
          <p:sp>
            <p:nvSpPr>
              <p:cNvPr id="896" name=""/>
              <p:cNvSpPr/>
              <p:nvPr/>
            </p:nvSpPr>
            <p:spPr>
              <a:xfrm>
                <a:off x="66992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7914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8817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7392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7613640" y="3930480"/>
              <a:ext cx="274680" cy="381240"/>
              <a:chOff x="7613640" y="3930480"/>
              <a:chExt cx="274680" cy="381240"/>
            </a:xfrm>
          </p:grpSpPr>
          <p:sp>
            <p:nvSpPr>
              <p:cNvPr id="901" name=""/>
              <p:cNvSpPr/>
              <p:nvPr/>
            </p:nvSpPr>
            <p:spPr>
              <a:xfrm>
                <a:off x="761364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0580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79616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888320" y="3930480"/>
                <a:ext cx="0" cy="38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219320" y="4295880"/>
              <a:ext cx="6672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429588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2520" y="4724280"/>
              <a:ext cx="1066680" cy="38124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495680" y="5105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5486400"/>
              <a:ext cx="129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 (R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i-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, 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91320" y="83808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2 bits into 48 b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28600" y="48769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6 bits into 4 b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715000" y="48769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ermut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13" name=""/>
            <p:cNvCxnSpPr>
              <a:stCxn id="912" idx="1"/>
              <a:endCxn id="907" idx="3"/>
            </p:cNvCxnSpPr>
            <p:nvPr/>
          </p:nvCxnSpPr>
          <p:spPr>
            <a:xfrm rot="10800000">
              <a:off x="5028480" y="4914360"/>
              <a:ext cx="686520" cy="1465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14" name=""/>
            <p:cNvCxnSpPr>
              <a:stCxn id="911" idx="1"/>
              <a:endCxn id="852" idx="1"/>
            </p:cNvCxnSpPr>
            <p:nvPr/>
          </p:nvCxnSpPr>
          <p:spPr>
            <a:xfrm flipH="1" rot="10800000">
              <a:off x="228240" y="3695040"/>
              <a:ext cx="776880" cy="1365840"/>
            </a:xfrm>
            <a:prstGeom prst="curvedConnector5">
              <a:avLst>
                <a:gd name="adj1" fmla="val -2039"/>
                <a:gd name="adj2" fmla="val 49986"/>
                <a:gd name="adj3" fmla="val -203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15" name=""/>
            <p:cNvCxnSpPr>
              <a:stCxn id="910" idx="2"/>
              <a:endCxn id="788" idx="3"/>
            </p:cNvCxnSpPr>
            <p:nvPr/>
          </p:nvCxnSpPr>
          <p:spPr>
            <a:xfrm rot="5400000">
              <a:off x="5859720" y="525960"/>
              <a:ext cx="624600" cy="198216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A5F7-2BE6-4EE8-824D-88C56180EA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50000">
              <a:srgbClr val="004c99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0" y="228600"/>
            <a:ext cx="8839080" cy="6095880"/>
            <a:chOff x="0" y="228600"/>
            <a:chExt cx="8839080" cy="6095880"/>
          </a:xfrm>
        </p:grpSpPr>
        <p:sp>
          <p:nvSpPr>
            <p:cNvPr id="917" name=""/>
            <p:cNvSpPr/>
            <p:nvPr/>
          </p:nvSpPr>
          <p:spPr>
            <a:xfrm>
              <a:off x="3352680" y="228600"/>
              <a:ext cx="121932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62520" y="68580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048120" y="10666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48120" y="10666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90920" y="137160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343400" y="137160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90920" y="2057400"/>
              <a:ext cx="838080" cy="53352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43400" y="2057400"/>
              <a:ext cx="838080" cy="53352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590920" y="281952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43400" y="281952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590920" y="4572000"/>
              <a:ext cx="838080" cy="53352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43400" y="4572000"/>
              <a:ext cx="838080" cy="53352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S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90920" y="548640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43400" y="5486400"/>
              <a:ext cx="8380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638680" y="3200400"/>
              <a:ext cx="121932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62720" y="5867280"/>
              <a:ext cx="1218960" cy="45720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97180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24280" y="32004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971800" y="3429000"/>
              <a:ext cx="2666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971800" y="3733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724280" y="3733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971800" y="4191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24280" y="41911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971800" y="586728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971800" y="6095880"/>
              <a:ext cx="2590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724280" y="586728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71800" y="5105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724280" y="5105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81680" y="609588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858000" y="34290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752480" y="304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38280" y="45720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91520" y="32767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391520" y="586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0" y="9144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64-bit ke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3" name=""/>
            <p:cNvCxnSpPr>
              <a:stCxn id="952" idx="0"/>
              <a:endCxn id="948" idx="1"/>
            </p:cNvCxnSpPr>
            <p:nvPr/>
          </p:nvCxnSpPr>
          <p:spPr>
            <a:xfrm flipH="1" flipV="1" rot="5400000">
              <a:off x="1158480" y="320400"/>
              <a:ext cx="426240" cy="76248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954" name=""/>
            <p:cNvSpPr/>
            <p:nvPr/>
          </p:nvSpPr>
          <p:spPr>
            <a:xfrm>
              <a:off x="5867280" y="4572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64 bits into 56 b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5" name=""/>
            <p:cNvCxnSpPr>
              <a:endCxn id="917" idx="3"/>
            </p:cNvCxnSpPr>
            <p:nvPr/>
          </p:nvCxnSpPr>
          <p:spPr>
            <a:xfrm rot="10800000">
              <a:off x="4571280" y="456480"/>
              <a:ext cx="11437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6248520" y="129528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oll left for 1 or 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osi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7" name=""/>
            <p:cNvCxnSpPr>
              <a:stCxn id="956" idx="1"/>
              <a:endCxn id="925" idx="3"/>
            </p:cNvCxnSpPr>
            <p:nvPr/>
          </p:nvCxnSpPr>
          <p:spPr>
            <a:xfrm flipV="1" rot="10800000">
              <a:off x="5180760" y="1614960"/>
              <a:ext cx="1067760" cy="708840"/>
            </a:xfrm>
            <a:prstGeom prst="curvedConnector5">
              <a:avLst>
                <a:gd name="adj1" fmla="val 49983"/>
                <a:gd name="adj2" fmla="val 50000"/>
                <a:gd name="adj3" fmla="val 49983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1"/>
              <a:endCxn id="956" idx="1"/>
            </p:cNvCxnSpPr>
            <p:nvPr/>
          </p:nvCxnSpPr>
          <p:spPr>
            <a:xfrm flipH="1" flipV="1" rot="10800000">
              <a:off x="6248160" y="1614960"/>
              <a:ext cx="2160" cy="2520"/>
            </a:xfrm>
            <a:prstGeom prst="bentConnector3">
              <a:avLst>
                <a:gd name="adj1" fmla="val -14400000"/>
              </a:avLst>
            </a:prstGeom>
            <a:ln w="0">
              <a:noFill/>
            </a:ln>
          </p:spPr>
        </p:cxnSp>
        <p:sp>
          <p:nvSpPr>
            <p:cNvPr id="959" name=""/>
            <p:cNvSpPr/>
            <p:nvPr/>
          </p:nvSpPr>
          <p:spPr>
            <a:xfrm>
              <a:off x="6477120" y="43434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6 bits into 48 b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59" idx="1"/>
              <a:endCxn id="932" idx="2"/>
            </p:cNvCxnSpPr>
            <p:nvPr/>
          </p:nvCxnSpPr>
          <p:spPr>
            <a:xfrm rot="10800000">
              <a:off x="6247800" y="3656880"/>
              <a:ext cx="229320" cy="87084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61" name=""/>
            <p:cNvCxnSpPr>
              <a:stCxn id="959" idx="1"/>
              <a:endCxn id="933" idx="0"/>
            </p:cNvCxnSpPr>
            <p:nvPr/>
          </p:nvCxnSpPr>
          <p:spPr>
            <a:xfrm flipV="1" rot="10800000">
              <a:off x="6171480" y="4526640"/>
              <a:ext cx="305640" cy="134028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962" name=""/>
            <p:cNvSpPr/>
            <p:nvPr/>
          </p:nvSpPr>
          <p:spPr>
            <a:xfrm>
              <a:off x="3048120" y="1752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00600" y="17524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04812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00600" y="2590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616E3-1152-42C8-85D9-28FF09EF39B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-key encryp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titution ciphering with two keys: private and publ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57200" y="2971800"/>
            <a:ext cx="8153280" cy="2158200"/>
            <a:chOff x="457200" y="2971800"/>
            <a:chExt cx="8153280" cy="2158200"/>
          </a:xfrm>
        </p:grpSpPr>
        <p:sp>
          <p:nvSpPr>
            <p:cNvPr id="969" name=""/>
            <p:cNvSpPr/>
            <p:nvPr/>
          </p:nvSpPr>
          <p:spPr>
            <a:xfrm>
              <a:off x="2133720" y="342900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7200" y="2971800"/>
              <a:ext cx="8153280" cy="2158200"/>
              <a:chOff x="457200" y="2971800"/>
              <a:chExt cx="8153280" cy="2158200"/>
            </a:xfrm>
          </p:grpSpPr>
          <p:sp>
            <p:nvSpPr>
              <p:cNvPr id="971" name=""/>
              <p:cNvSpPr/>
              <p:nvPr/>
            </p:nvSpPr>
            <p:spPr>
              <a:xfrm>
                <a:off x="5334120" y="3429000"/>
                <a:ext cx="1371600" cy="4572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505320" y="3657600"/>
                <a:ext cx="1828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81280" y="297180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ublic channe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2819520" y="388584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6019920" y="388584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438280" y="4724280"/>
                <a:ext cx="990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public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562720" y="4724280"/>
                <a:ext cx="990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privat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7200" y="350532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essa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238880" y="350532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messag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752480" y="3657600"/>
                <a:ext cx="38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705720" y="36576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657600" y="3809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ryptogra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A9D2-63C5-42F6-A4A2-476395FF758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lvl="1" marL="401040" indent="-154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 algorithm (Rivest, Shamir &amp; Adleman, 197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key K = P * Q, P and Q are very long numb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key K’ = (2 * (P -1) * (Q - 1) + 1) /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ng: C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mod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rypting: F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K’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mod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1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8911-7620-4E21-8340-B5CAFBEEE8B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5042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= 715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 = 132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7151 * 13259 = 948151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’ = (2 * 7150 * 13258 + 1) / 3 = 631964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e: MARY HAD A LITTLE LA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CII REPRESENT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7 65 8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9 32 7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 68 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 32 7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3 84 8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6 69 3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6 65 7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46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= 3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= (776582 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mod 94815109 = 7161194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(71611947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 63196467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mod 94815109 = 776582 (!!!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E7A3-4856-4F71-82F4-F70B26B6DD9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09480" y="1644480"/>
            <a:ext cx="77724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authent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-integrity authent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pudia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066680" y="3200400"/>
            <a:ext cx="7086600" cy="3353760"/>
            <a:chOff x="1066680" y="3200400"/>
            <a:chExt cx="7086600" cy="3353760"/>
          </a:xfrm>
        </p:grpSpPr>
        <p:grpSp>
          <p:nvGrpSpPr>
            <p:cNvPr id="989" name=""/>
            <p:cNvGrpSpPr/>
            <p:nvPr/>
          </p:nvGrpSpPr>
          <p:grpSpPr>
            <a:xfrm>
              <a:off x="1066680" y="3200400"/>
              <a:ext cx="7086600" cy="3353760"/>
              <a:chOff x="1066680" y="3200400"/>
              <a:chExt cx="7086600" cy="335376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1066680" y="3200400"/>
                <a:ext cx="3200400" cy="3353760"/>
                <a:chOff x="1066680" y="3200400"/>
                <a:chExt cx="3200400" cy="3353760"/>
              </a:xfrm>
            </p:grpSpPr>
            <p:grpSp>
              <p:nvGrpSpPr>
                <p:cNvPr id="991" name=""/>
                <p:cNvGrpSpPr/>
                <p:nvPr/>
              </p:nvGrpSpPr>
              <p:grpSpPr>
                <a:xfrm>
                  <a:off x="1066680" y="3200400"/>
                  <a:ext cx="3200400" cy="2057400"/>
                  <a:chOff x="1066680" y="3200400"/>
                  <a:chExt cx="3200400" cy="20574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1066680" y="3809880"/>
                    <a:ext cx="3200400" cy="30492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Data…to…be…sen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1066680" y="3581280"/>
                    <a:ext cx="32004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1677240" y="3200400"/>
                    <a:ext cx="1820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Variable lengt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1066680" y="4114800"/>
                    <a:ext cx="3200400" cy="1143000"/>
                  </a:xfrm>
                  <a:custGeom>
                    <a:avLst/>
                    <a:gdLst>
                      <a:gd name="textAreaLeft" fmla="*/ 511560 w 3200400"/>
                      <a:gd name="textAreaRight" fmla="*/ 2688840 w 3200400"/>
                      <a:gd name="textAreaTop" fmla="*/ 182520 h 1143000"/>
                      <a:gd name="textAreaBottom" fmla="*/ 960480 h 1143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536" y="21600"/>
                        </a:lnTo>
                        <a:lnTo>
                          <a:pt x="3064" y="2160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Hashing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lgorithm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6" name=""/>
                <p:cNvGrpSpPr/>
                <p:nvPr/>
              </p:nvGrpSpPr>
              <p:grpSpPr>
                <a:xfrm>
                  <a:off x="1523880" y="5257800"/>
                  <a:ext cx="2286000" cy="1296360"/>
                  <a:chOff x="1523880" y="5257800"/>
                  <a:chExt cx="2286000" cy="1296360"/>
                </a:xfrm>
              </p:grpSpPr>
              <p:sp>
                <p:nvSpPr>
                  <p:cNvPr id="997" name=""/>
                  <p:cNvSpPr/>
                  <p:nvPr/>
                </p:nvSpPr>
                <p:spPr>
                  <a:xfrm>
                    <a:off x="1602360" y="5911560"/>
                    <a:ext cx="19195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Fixed lengt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(128 or 160 bits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1666440" y="5333760"/>
                    <a:ext cx="19058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Message Diges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1523880" y="52578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809880" y="5257800"/>
                    <a:ext cx="0" cy="914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1523880" y="586728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02" name=""/>
              <p:cNvSpPr/>
              <p:nvPr/>
            </p:nvSpPr>
            <p:spPr>
              <a:xfrm>
                <a:off x="4267080" y="5257800"/>
                <a:ext cx="1524240" cy="76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ncryp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72200" y="5410080"/>
                <a:ext cx="198108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gital signatu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809880" y="5562360"/>
                <a:ext cx="45720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715000" y="5790960"/>
                <a:ext cx="457200" cy="7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4648320" y="3200400"/>
              <a:ext cx="2209680" cy="2057400"/>
              <a:chOff x="4648320" y="3200400"/>
              <a:chExt cx="2209680" cy="20574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724280" y="3581280"/>
                <a:ext cx="182880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008" name=""/>
              <p:cNvGraphicFramePr/>
              <p:nvPr/>
            </p:nvGraphicFramePr>
            <p:xfrm>
              <a:off x="5638680" y="4190760"/>
              <a:ext cx="743040" cy="360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4190760"/>
                        <a:ext cx="743040" cy="36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10" name=""/>
              <p:cNvGraphicFramePr/>
              <p:nvPr/>
            </p:nvGraphicFramePr>
            <p:xfrm>
              <a:off x="4952880" y="3886200"/>
              <a:ext cx="743040" cy="360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1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952880" y="3886200"/>
                        <a:ext cx="743040" cy="36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2" name=""/>
              <p:cNvSpPr/>
              <p:nvPr/>
            </p:nvSpPr>
            <p:spPr>
              <a:xfrm>
                <a:off x="4648320" y="3581280"/>
                <a:ext cx="1447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ke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257800" y="4572000"/>
                <a:ext cx="1600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ke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105160" y="4190760"/>
                <a:ext cx="228600" cy="106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803120" y="3200400"/>
                <a:ext cx="109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Key Pai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612B-A8EE-441A-A592-AFF53F60FB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cry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04920" y="2743200"/>
            <a:ext cx="8458200" cy="3276720"/>
            <a:chOff x="304920" y="2743200"/>
            <a:chExt cx="8458200" cy="3276720"/>
          </a:xfrm>
        </p:grpSpPr>
        <p:sp>
          <p:nvSpPr>
            <p:cNvPr id="1019" name=""/>
            <p:cNvSpPr/>
            <p:nvPr/>
          </p:nvSpPr>
          <p:spPr>
            <a:xfrm>
              <a:off x="4800600" y="3200400"/>
              <a:ext cx="114300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ssage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858000" y="3581280"/>
              <a:ext cx="1143000" cy="45720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gest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095880" y="33526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43600" y="3809880"/>
              <a:ext cx="914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20120" y="5181480"/>
              <a:ext cx="1143000" cy="457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al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10280" y="5410080"/>
              <a:ext cx="609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772400" y="4038480"/>
              <a:ext cx="0" cy="1143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304920" y="2743200"/>
              <a:ext cx="6705360" cy="3276720"/>
              <a:chOff x="304920" y="2743200"/>
              <a:chExt cx="6705360" cy="3276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3200400" y="4343400"/>
                <a:ext cx="1371600" cy="152280"/>
              </a:xfrm>
              <a:prstGeom prst="rightArrow">
                <a:avLst>
                  <a:gd name="adj1" fmla="val 50000"/>
                  <a:gd name="adj2" fmla="val 225177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00600" y="4419720"/>
                <a:ext cx="1143000" cy="457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867280" y="5181480"/>
                <a:ext cx="1143000" cy="45720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est’’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410080" y="4876920"/>
                <a:ext cx="0" cy="53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410080" y="54100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32" name="kljuc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5257800"/>
                <a:ext cx="88596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"/>
              <p:cNvSpPr/>
              <p:nvPr/>
            </p:nvSpPr>
            <p:spPr>
              <a:xfrm>
                <a:off x="3886200" y="52578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B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304920" y="2743200"/>
                <a:ext cx="2590560" cy="3276720"/>
                <a:chOff x="304920" y="2743200"/>
                <a:chExt cx="2590560" cy="327672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1066680" y="4114800"/>
                  <a:ext cx="609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A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pic>
              <p:nvPicPr>
                <p:cNvPr id="1036" name="kljuc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14400" y="5105520"/>
                  <a:ext cx="885960" cy="361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7" name=""/>
                <p:cNvSpPr/>
                <p:nvPr/>
              </p:nvSpPr>
              <p:spPr>
                <a:xfrm>
                  <a:off x="304920" y="5105520"/>
                  <a:ext cx="76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PRK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8" name=""/>
                <p:cNvGrpSpPr/>
                <p:nvPr/>
              </p:nvGrpSpPr>
              <p:grpSpPr>
                <a:xfrm>
                  <a:off x="1752480" y="2743200"/>
                  <a:ext cx="1143000" cy="3276720"/>
                  <a:chOff x="1752480" y="2743200"/>
                  <a:chExt cx="1143000" cy="327672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1752480" y="3200400"/>
                    <a:ext cx="1143000" cy="838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Messag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1752480" y="4572000"/>
                    <a:ext cx="1143000" cy="457200"/>
                  </a:xfrm>
                  <a:prstGeom prst="rect">
                    <a:avLst/>
                  </a:prstGeom>
                  <a:solidFill>
                    <a:srgbClr val="cbcb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igest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1752480" y="5562720"/>
                    <a:ext cx="1143000" cy="45720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2286000" y="4038480"/>
                    <a:ext cx="0" cy="533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2286000" y="5029200"/>
                    <a:ext cx="0" cy="5335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1752480" y="2743200"/>
                    <a:ext cx="1143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SEND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45" name=""/>
            <p:cNvSpPr/>
            <p:nvPr/>
          </p:nvSpPr>
          <p:spPr>
            <a:xfrm>
              <a:off x="4648320" y="27432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CEI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609480" y="1752480"/>
            <a:ext cx="777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 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4D78-3654-4DF7-B655-741A4D9275C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88920" indent="-8892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Certific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0" algn="just">
              <a:lnSpc>
                <a:spcPct val="5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-7416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ong binding between the public key and some attribu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0">
              <a:lnSpc>
                <a:spcPct val="5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-7416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lp someone receiving a message decide whether the message, the key and the sender's name are what they appear to 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0">
              <a:lnSpc>
                <a:spcPct val="5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-7416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lectronic file that uniquely identifies communication entities on the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0">
              <a:lnSpc>
                <a:spcPct val="5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-7416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sued and signed by the Certification auth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296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5E34A-42C3-4C8B-A818-FC4DAFD5E5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rt 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-facto standard for digital certification is ITU-T recommendation X.509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440" indent="-1112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rtification Authority (CA)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ssues certificate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440" indent="-1112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scribe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 Client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9440" indent="-1112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the public in gener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1" name="sertifikat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143160" cy="4181760"/>
          </a:xfrm>
          <a:prstGeom prst="rect">
            <a:avLst/>
          </a:prstGeom>
          <a:ln w="0">
            <a:noFill/>
          </a:ln>
        </p:spPr>
      </p:pic>
      <p:grpSp>
        <p:nvGrpSpPr>
          <p:cNvPr id="1052" name=""/>
          <p:cNvGrpSpPr/>
          <p:nvPr/>
        </p:nvGrpSpPr>
        <p:grpSpPr>
          <a:xfrm>
            <a:off x="6477120" y="2362320"/>
            <a:ext cx="2057400" cy="609120"/>
            <a:chOff x="6477120" y="2362320"/>
            <a:chExt cx="2057400" cy="609120"/>
          </a:xfrm>
        </p:grpSpPr>
        <p:sp>
          <p:nvSpPr>
            <p:cNvPr id="1053" name=""/>
            <p:cNvSpPr/>
            <p:nvPr/>
          </p:nvSpPr>
          <p:spPr>
            <a:xfrm>
              <a:off x="7010280" y="2362320"/>
              <a:ext cx="152424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ublic key val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6477120" y="2742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209680" y="4038480"/>
            <a:ext cx="3810240" cy="2819520"/>
            <a:chOff x="2209680" y="4038480"/>
            <a:chExt cx="3810240" cy="2819520"/>
          </a:xfrm>
        </p:grpSpPr>
        <p:sp>
          <p:nvSpPr>
            <p:cNvPr id="1056" name=""/>
            <p:cNvSpPr/>
            <p:nvPr/>
          </p:nvSpPr>
          <p:spPr>
            <a:xfrm>
              <a:off x="2209680" y="4648320"/>
              <a:ext cx="246852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rt holder’s unique na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suer’s unique nam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ial numb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gnature algorithm identifi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ertification Author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idity peri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4419720" y="4038480"/>
              <a:ext cx="16002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7315200" y="4191120"/>
            <a:ext cx="1828800" cy="914400"/>
            <a:chOff x="7315200" y="4191120"/>
            <a:chExt cx="1828800" cy="914400"/>
          </a:xfrm>
        </p:grpSpPr>
        <p:sp>
          <p:nvSpPr>
            <p:cNvPr id="1059" name=""/>
            <p:cNvSpPr/>
            <p:nvPr/>
          </p:nvSpPr>
          <p:spPr>
            <a:xfrm>
              <a:off x="7315200" y="4191120"/>
              <a:ext cx="1828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’s private ke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7391520" y="457200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6248520" y="5410080"/>
            <a:ext cx="2438280" cy="870840"/>
            <a:chOff x="6248520" y="5410080"/>
            <a:chExt cx="2438280" cy="870840"/>
          </a:xfrm>
        </p:grpSpPr>
        <p:sp>
          <p:nvSpPr>
            <p:cNvPr id="1062" name=""/>
            <p:cNvSpPr/>
            <p:nvPr/>
          </p:nvSpPr>
          <p:spPr>
            <a:xfrm>
              <a:off x="6248520" y="5943600"/>
              <a:ext cx="2438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’s digital signatu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24480" y="5410080"/>
              <a:ext cx="304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C9FF8-AA3F-4F19-A299-5549710419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tocol designed to work at the socket layer, to protect any higher level protocol built on sockets, such as telnet, ftp, or 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1219320" y="3429000"/>
          <a:ext cx="6089400" cy="274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429000"/>
                    <a:ext cx="60894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68ECA-4C92-4F91-9C1C-DCE6315F7A0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39720" y="164448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-102600" algn="just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 protocol is composed of two laye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26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2600" indent="-102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cord L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nection security using data encryp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symmetric cryptograph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message integrity 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very SSL sess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reate a randomly generated temporary master ke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30A1-C86A-4201-9C29-55705E6B65A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urity Tod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3915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andshake Lay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1143000" y="1905120"/>
            <a:ext cx="6248520" cy="368280"/>
            <a:chOff x="1143000" y="1905120"/>
            <a:chExt cx="6248520" cy="368280"/>
          </a:xfrm>
        </p:grpSpPr>
        <p:sp>
          <p:nvSpPr>
            <p:cNvPr id="1074" name=""/>
            <p:cNvSpPr/>
            <p:nvPr/>
          </p:nvSpPr>
          <p:spPr>
            <a:xfrm>
              <a:off x="1143000" y="19051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34120" y="19051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0" y="23623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ENT-HELLO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formation on the cryptographic systems it is willing or able to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2520" y="30481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ER-HELLO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connection id, its key certificate, and information about the cryptosystems it support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388620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rifies the server's public key, and responds with a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ENT-MASTER-KE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914400" y="4572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LIENT-FINISH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29200" y="4876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ER-VERIF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ess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05520" y="54864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REQUEST-CERTIFIC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914400" y="57150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LIENT-CERTIFIC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648320" y="62485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ERVER-FINI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6422-3612-4070-B257-4E6F8EF43D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nd of Part Tw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rt Thre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stage in the shift to government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e of Internet is increasing each 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online_banking_population" descr=""/>
          <p:cNvPicPr/>
          <p:nvPr/>
        </p:nvPicPr>
        <p:blipFill>
          <a:blip r:embed="rId2"/>
          <a:stretch/>
        </p:blipFill>
        <p:spPr>
          <a:xfrm>
            <a:off x="2743200" y="3276720"/>
            <a:ext cx="3733920" cy="28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CB1F-964A-42E6-B89D-618BF5B8837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3" name="spending_at_european_sites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094" name="spending_at_uk_sites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government relays not only on Internet delivery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telephone, digital TV, and kiosk delivery as w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CE69-0BBE-4B2C-81DB-7586FC53263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tical issu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ershi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teg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vernance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ion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ing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ing a focus on citizen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oiding the digital divid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killing governmen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-96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eed for communic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52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6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8" name="NZ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5FA3-1FC4-4DD3-AB01-BB71EBA5AB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85520"/>
            <a:ext cx="91440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Introduction to E-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411336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technologies are fundamentally transforming our economy and socie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have potentials for transfor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the 28th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the year 2005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ally registering with central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acting all dealings with IRD on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government forms and all services available on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 to have their say in the policy-mak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orized accessing records of a person’s health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ally posting transactions and receiving doc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ing change of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D34C-3FFE-4E5F-81F2-CEFFE1C12E9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ted 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-1911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ek integration across federal servic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between states and federal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-1911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ck of reliable authentication services – no paper ID c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-1911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divide is one of the major bar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97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3" name="US1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104" name="US2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358128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F6F0-A069-4CF4-9DA2-67CE2DA9B72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York State’s major pro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ing a statewide IP network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ing a comprehensive plan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tructuring the state’s data centers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st Practices” sessions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wide legisla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peration with local government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ing all purchases of technolog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-10836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ng in projec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30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82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0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30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30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955F-042B-4A13-9359-3615DC1AF34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deral initiative was to deliv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Commonwealth services electronicall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a the Internet by 200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1999, over 18% of all household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d home Internet access (79% of that in major cities)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still made Australi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 most wired countries in the wor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1141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of the first e-government program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s Multimedia Victoria (MMV) in Victori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initial strategy document in 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8F5C-029F-4E6C-A9E7-FF94B3EA476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government is also derived into channels: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, land, health channel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ting up an applic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s betwe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$100k and A$200k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-142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providers are charge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0 cents to $2 per transactio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71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1" name="australia" descr=""/>
          <p:cNvPicPr/>
          <p:nvPr/>
        </p:nvPicPr>
        <p:blipFill>
          <a:blip r:embed="rId2"/>
          <a:stretch/>
        </p:blipFill>
        <p:spPr>
          <a:xfrm>
            <a:off x="5029200" y="3276720"/>
            <a:ext cx="388476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5391-365B-42F0-9FEA-C1F38D9C982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1999, UK published its White Paper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izing 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Procureme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making 90% of low-value government procureme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ctronic by April 200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vernment Business Processes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quivalence to written and digital document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and Information Delive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25% by 2001, 50% by 2005, and 100% by 2008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8E40-D1FB-484F-AF0B-8D16755FC34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of the internet is not as high as 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ndinavia, the US, or Australi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ax system is very compli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ingle, integrated national database to be used to roll out E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ing of e-libraries and placing computer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schools and neighborhoo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-119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umber of statutes in the UK that preve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gathered for one purpose to be used for another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the access to the data is seriously limi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1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44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0AA0-104F-41F5-B641-3B80F1BCBF3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tario, Ca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1998, an Information &amp; Information Strategy was rele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many IT systems with poor evidence of integr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ng agencies and weak links to the broader public s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8" name="ontario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3894120" cy="29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08C3-4FBB-4B50-B8DD-F548F487172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ence In The Fiel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lvl="1" marL="297000" indent="-1141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technology was incompatible and variety of network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de it difficult to implement systems across gover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97000" indent="-114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 IT clusters were introduced: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/land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omics/business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man Services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stices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unity Services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254A-0F8F-49C7-9315-82D9557A7F5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government - the transformation of internal and exter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processes toward customer-centric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upon service delivery opportun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ered by new communication technolog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972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connecting Citizens, Suppliers, Employee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other agencies securely us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972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 technologi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the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tandar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f the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ublic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intra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F8169-C2D5-4D66-B736-1AA22E2EB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s of a business c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following diagram illustrates some recommended step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the development of a business cas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government e-commerce initiati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981720" y="3581280"/>
            <a:ext cx="7293960" cy="2209680"/>
            <a:chOff x="981720" y="3581280"/>
            <a:chExt cx="7293960" cy="2209680"/>
          </a:xfrm>
        </p:grpSpPr>
        <p:sp>
          <p:nvSpPr>
            <p:cNvPr id="1125" name=""/>
            <p:cNvSpPr/>
            <p:nvPr/>
          </p:nvSpPr>
          <p:spPr>
            <a:xfrm>
              <a:off x="981720" y="3581280"/>
              <a:ext cx="55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Step 1: Identification of sustainable projec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06440" y="3962160"/>
              <a:ext cx="364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ff"/>
                  </a:solidFill>
                  <a:latin typeface="Times New Roman"/>
                </a:rPr>
                <a:t>Step 2: Value chain analy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52920" y="4343400"/>
              <a:ext cx="304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cc"/>
                  </a:solidFill>
                  <a:latin typeface="Times New Roman"/>
                </a:rPr>
                <a:t>Step 3: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69840" y="4800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Step 4: Feedback and re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81480" y="52578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1370880" y="5638680"/>
              <a:ext cx="3809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1371240" y="40384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52480" y="403848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752480" y="419076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19160" y="4419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19160" y="4647960"/>
              <a:ext cx="837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62160" y="48006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2160" y="5105160"/>
              <a:ext cx="609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22B1-02D1-478C-9506-5D78BB51999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list of topics that pertains to public e-commerce project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0" y="1919160"/>
            <a:ext cx="9144000" cy="4480200"/>
            <a:chOff x="0" y="1919160"/>
            <a:chExt cx="9144000" cy="4480200"/>
          </a:xfrm>
        </p:grpSpPr>
        <p:sp>
          <p:nvSpPr>
            <p:cNvPr id="1141" name=""/>
            <p:cNvSpPr/>
            <p:nvPr/>
          </p:nvSpPr>
          <p:spPr>
            <a:xfrm>
              <a:off x="890640" y="201456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ase Dimensio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418000" y="203364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8600" y="1919160"/>
              <a:ext cx="8686800" cy="448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28600" y="255888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9960" y="2666880"/>
              <a:ext cx="171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ea Gene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54200" y="2666880"/>
              <a:ext cx="41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 source and impetus for a new pro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3352680"/>
              <a:ext cx="361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stomer and Market Researc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886200" y="3200400"/>
              <a:ext cx="480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 evaluation of the intended potential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sers and beneficiaries of a pro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34000" y="3962520"/>
              <a:ext cx="264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 Develop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33920" y="3886200"/>
              <a:ext cx="518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 analysis of the technological  resources necessary to build and service a new pro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06720" y="4572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s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05320" y="4495680"/>
              <a:ext cx="563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controllable factors that may jeopardize implementation or customer adoption of a pro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28600" y="319896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8600" y="383868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8600" y="447840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9880" y="1919160"/>
              <a:ext cx="0" cy="4480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28600" y="511812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31120" y="5257800"/>
              <a:ext cx="190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roval Pro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052160" y="5181480"/>
              <a:ext cx="437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e level of authority within the governm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quired for project initi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0760" y="5943600"/>
              <a:ext cx="19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ccess Measur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73680" y="5791320"/>
              <a:ext cx="453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ols used to assess whether or not a proj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s met its intended goal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8600" y="5757840"/>
              <a:ext cx="8686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CF60-7CD7-462A-B084-1B7D0920C3D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of E-government is characterized with complexity and deep impact on soci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sue Driven Planning (I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28600" y="3733920"/>
            <a:ext cx="8659800" cy="990360"/>
            <a:chOff x="228600" y="3733920"/>
            <a:chExt cx="8659800" cy="990360"/>
          </a:xfrm>
        </p:grpSpPr>
        <p:sp>
          <p:nvSpPr>
            <p:cNvPr id="1166" name=""/>
            <p:cNvSpPr/>
            <p:nvPr/>
          </p:nvSpPr>
          <p:spPr>
            <a:xfrm>
              <a:off x="228600" y="3733920"/>
              <a:ext cx="1447920" cy="99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conom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row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057400" y="3733920"/>
              <a:ext cx="1447920" cy="99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lecom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lic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86200" y="3733920"/>
              <a:ext cx="1295280" cy="99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du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562720" y="3733920"/>
              <a:ext cx="1600200" cy="990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overn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20120" y="3809880"/>
              <a:ext cx="126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gi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e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77960" y="4038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06760" y="4038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182920" y="4038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40320" y="4038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C23D-5966-4774-AD83-F726392E4D9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39360" y="1644120"/>
            <a:ext cx="804708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 algn="just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issues important for successful develo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 measu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 compet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act and project man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st pract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ationship manag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9320" indent="-1227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D63C-203E-4A07-826C-AA82B653674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39360" y="16444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step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ive appoin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government vi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obal plan defini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ge I - Strategy (what should be d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ge II - Competency (what could be d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ge III - Implementation (what will be do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5DEE8-D601-49B1-93A9-E44DC232501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ategy planning should start with a meet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228600" y="2209680"/>
            <a:ext cx="4572000" cy="1371600"/>
            <a:chOff x="228600" y="2209680"/>
            <a:chExt cx="4572000" cy="1371600"/>
          </a:xfrm>
        </p:grpSpPr>
        <p:sp>
          <p:nvSpPr>
            <p:cNvPr id="1182" name=""/>
            <p:cNvSpPr/>
            <p:nvPr/>
          </p:nvSpPr>
          <p:spPr>
            <a:xfrm>
              <a:off x="609480" y="2286000"/>
              <a:ext cx="403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usiness strategy summ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ood practice strate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urrent trend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urrent stage evalu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8600" y="2209680"/>
              <a:ext cx="4572000" cy="1371600"/>
            </a:xfrm>
            <a:prstGeom prst="flowChartManualOperation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685800" y="4267080"/>
            <a:ext cx="3505320" cy="2133720"/>
            <a:chOff x="685800" y="4267080"/>
            <a:chExt cx="3505320" cy="2133720"/>
          </a:xfrm>
        </p:grpSpPr>
        <p:sp>
          <p:nvSpPr>
            <p:cNvPr id="1185" name=""/>
            <p:cNvSpPr/>
            <p:nvPr/>
          </p:nvSpPr>
          <p:spPr>
            <a:xfrm>
              <a:off x="685800" y="4343400"/>
              <a:ext cx="3505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usiness targets re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-government vis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-government targe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ject candid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ject priority criter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iority criteria evalu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lternative resource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2120" y="4267080"/>
              <a:ext cx="3352680" cy="2133720"/>
            </a:xfrm>
            <a:prstGeom prst="flowChartAlternateProcess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6553080" y="3886200"/>
            <a:ext cx="914400" cy="609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800600" y="4419720"/>
            <a:ext cx="4114800" cy="1828800"/>
          </a:xfrm>
          <a:prstGeom prst="flowChart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ification (G2C, G2B, G2E, G2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priority outc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interopera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ing sche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ernative resources se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514600" y="3581280"/>
            <a:ext cx="0" cy="6858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5410080"/>
            <a:ext cx="6858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1926-7253-44FB-80ED-143DFC42AD0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ency planning - Users and 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s competenc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eye-to-eye 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ltural and language restri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ica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omical stat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graphical limit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edu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84DB-C7F1-421B-B613-13FFA2CD7ED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-government competenc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der compet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ory restriction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ing with digital rec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cy and Secu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ral Authority (CIO - Chief Information Offic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228600" indent="-457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ategic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228600" indent="-457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EF4DF-CC98-4760-8AF0-172E887A034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rategy Plan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9144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ation plan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0880" y="2133720"/>
            <a:ext cx="1524240" cy="6094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184800" y="3276720"/>
            <a:ext cx="2743200" cy="1904760"/>
          </a:xfrm>
          <a:prstGeom prst="flowChart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conomical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dget Eval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ing and Resour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ed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0880" y="2819520"/>
            <a:ext cx="1524240" cy="6094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0880" y="3505320"/>
            <a:ext cx="1524240" cy="6094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14600" y="2743200"/>
            <a:ext cx="1371600" cy="7621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a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-304920" y="4191120"/>
            <a:ext cx="2235240" cy="761760"/>
            <a:chOff x="-304920" y="4191120"/>
            <a:chExt cx="2235240" cy="761760"/>
          </a:xfrm>
        </p:grpSpPr>
        <p:sp>
          <p:nvSpPr>
            <p:cNvPr id="1203" name=""/>
            <p:cNvSpPr/>
            <p:nvPr/>
          </p:nvSpPr>
          <p:spPr>
            <a:xfrm>
              <a:off x="152280" y="4191120"/>
              <a:ext cx="1752840" cy="76176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-304920" y="4191120"/>
              <a:ext cx="22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rvice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mprove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52280" y="5029200"/>
            <a:ext cx="1752840" cy="762120"/>
            <a:chOff x="152280" y="5029200"/>
            <a:chExt cx="1752840" cy="762120"/>
          </a:xfrm>
        </p:grpSpPr>
        <p:sp>
          <p:nvSpPr>
            <p:cNvPr id="1206" name=""/>
            <p:cNvSpPr/>
            <p:nvPr/>
          </p:nvSpPr>
          <p:spPr>
            <a:xfrm>
              <a:off x="152280" y="5029200"/>
              <a:ext cx="1752840" cy="762120"/>
            </a:xfrm>
            <a:prstGeom prst="flowChartAlternateProcess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0760" y="5105520"/>
              <a:ext cx="1614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ona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152280" y="5867280"/>
            <a:ext cx="1752840" cy="7621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514600" y="4952880"/>
            <a:ext cx="1371600" cy="7621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i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05120" y="31240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1904760" y="2362320"/>
            <a:ext cx="609840" cy="1447560"/>
            <a:chOff x="1904760" y="2362320"/>
            <a:chExt cx="609840" cy="1447560"/>
          </a:xfrm>
        </p:grpSpPr>
        <p:sp>
          <p:nvSpPr>
            <p:cNvPr id="1212" name=""/>
            <p:cNvSpPr/>
            <p:nvPr/>
          </p:nvSpPr>
          <p:spPr>
            <a:xfrm>
              <a:off x="1905120" y="30481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905120" y="2362320"/>
              <a:ext cx="6094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1904760" y="3048120"/>
              <a:ext cx="60948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1904760" y="4572000"/>
            <a:ext cx="609840" cy="1676520"/>
            <a:chOff x="1904760" y="4572000"/>
            <a:chExt cx="609840" cy="1676520"/>
          </a:xfrm>
        </p:grpSpPr>
        <p:sp>
          <p:nvSpPr>
            <p:cNvPr id="1216" name=""/>
            <p:cNvSpPr/>
            <p:nvPr/>
          </p:nvSpPr>
          <p:spPr>
            <a:xfrm>
              <a:off x="1905120" y="4572000"/>
              <a:ext cx="60948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904760" y="533412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1904760" y="5334120"/>
              <a:ext cx="6094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4419720" y="3809880"/>
            <a:ext cx="1371600" cy="76212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3886200" y="3048120"/>
            <a:ext cx="533520" cy="2286000"/>
            <a:chOff x="3886200" y="3048120"/>
            <a:chExt cx="533520" cy="2286000"/>
          </a:xfrm>
        </p:grpSpPr>
        <p:sp>
          <p:nvSpPr>
            <p:cNvPr id="1221" name=""/>
            <p:cNvSpPr/>
            <p:nvPr/>
          </p:nvSpPr>
          <p:spPr>
            <a:xfrm>
              <a:off x="3886200" y="3048120"/>
              <a:ext cx="53352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3886200" y="4191120"/>
              <a:ext cx="53352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5791320" y="4114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4CEC-EF18-4D83-9218-13B40BC157C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nd of Part Thre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9720" y="1644480"/>
            <a:ext cx="777240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 and service delive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ene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ate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ere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27760" y="2322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75480" y="239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2666880"/>
            <a:ext cx="8763120" cy="3461760"/>
            <a:chOff x="0" y="2666880"/>
            <a:chExt cx="8763120" cy="3461760"/>
          </a:xfrm>
        </p:grpSpPr>
        <p:sp>
          <p:nvSpPr>
            <p:cNvPr id="65" name=""/>
            <p:cNvSpPr/>
            <p:nvPr/>
          </p:nvSpPr>
          <p:spPr>
            <a:xfrm>
              <a:off x="3124080" y="4267080"/>
              <a:ext cx="381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3200400"/>
              <a:ext cx="3200400" cy="2928240"/>
              <a:chOff x="0" y="3200400"/>
              <a:chExt cx="3200400" cy="2928240"/>
            </a:xfrm>
          </p:grpSpPr>
          <p:sp>
            <p:nvSpPr>
              <p:cNvPr id="67" name=""/>
              <p:cNvSpPr/>
              <p:nvPr/>
            </p:nvSpPr>
            <p:spPr>
              <a:xfrm>
                <a:off x="1752480" y="3733920"/>
                <a:ext cx="1295640" cy="1066680"/>
              </a:xfrm>
              <a:prstGeom prst="cloudCallout">
                <a:avLst>
                  <a:gd name="adj1" fmla="val 17523"/>
                  <a:gd name="adj2" fmla="val 28273"/>
                </a:avLst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b2df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228600" y="3200400"/>
                <a:ext cx="1676520" cy="1447920"/>
                <a:chOff x="228600" y="3200400"/>
                <a:chExt cx="1676520" cy="1447920"/>
              </a:xfrm>
            </p:grpSpPr>
            <p:graphicFrame>
              <p:nvGraphicFramePr>
                <p:cNvPr id="69" name=""/>
                <p:cNvGraphicFramePr/>
                <p:nvPr/>
              </p:nvGraphicFramePr>
              <p:xfrm>
                <a:off x="228600" y="3962520"/>
                <a:ext cx="318960" cy="6858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70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228600" y="3962520"/>
                          <a:ext cx="318960" cy="68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71" name=""/>
                <p:cNvGraphicFramePr/>
                <p:nvPr/>
              </p:nvGraphicFramePr>
              <p:xfrm>
                <a:off x="533520" y="3200400"/>
                <a:ext cx="318960" cy="68580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72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533520" y="3200400"/>
                          <a:ext cx="318960" cy="68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3" name=""/>
                <p:cNvSpPr/>
                <p:nvPr/>
              </p:nvSpPr>
              <p:spPr>
                <a:xfrm>
                  <a:off x="609480" y="3886200"/>
                  <a:ext cx="1067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Citizen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38080" y="3657600"/>
                  <a:ext cx="1067040" cy="22860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609480" y="4267080"/>
                  <a:ext cx="1143000" cy="76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0" y="4572000"/>
                <a:ext cx="2133720" cy="946800"/>
                <a:chOff x="0" y="4572000"/>
                <a:chExt cx="2133720" cy="946800"/>
              </a:xfrm>
            </p:grpSpPr>
            <p:graphicFrame>
              <p:nvGraphicFramePr>
                <p:cNvPr id="77" name=""/>
                <p:cNvGraphicFramePr/>
                <p:nvPr/>
              </p:nvGraphicFramePr>
              <p:xfrm>
                <a:off x="1143000" y="4572000"/>
                <a:ext cx="318960" cy="68580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78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1143000" y="4572000"/>
                          <a:ext cx="318960" cy="68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9" name=""/>
                <p:cNvSpPr/>
                <p:nvPr/>
              </p:nvSpPr>
              <p:spPr>
                <a:xfrm>
                  <a:off x="762120" y="5181480"/>
                  <a:ext cx="137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Business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1447920" y="4648320"/>
                  <a:ext cx="380880" cy="30456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0" y="4800600"/>
                  <a:ext cx="137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Employe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81080" y="4800600"/>
                <a:ext cx="1219320" cy="1328040"/>
                <a:chOff x="1981080" y="4800600"/>
                <a:chExt cx="1219320" cy="1328040"/>
              </a:xfrm>
            </p:grpSpPr>
            <p:graphicFrame>
              <p:nvGraphicFramePr>
                <p:cNvPr id="83" name=""/>
                <p:cNvGraphicFramePr/>
                <p:nvPr/>
              </p:nvGraphicFramePr>
              <p:xfrm>
                <a:off x="2362320" y="5181480"/>
                <a:ext cx="318960" cy="68580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84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2362320" y="5181480"/>
                          <a:ext cx="318960" cy="6858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5" name=""/>
                <p:cNvSpPr/>
                <p:nvPr/>
              </p:nvSpPr>
              <p:spPr>
                <a:xfrm>
                  <a:off x="1981080" y="5791320"/>
                  <a:ext cx="12193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Agencie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H="1" flipV="1">
                  <a:off x="2514600" y="4800600"/>
                  <a:ext cx="76320" cy="38088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" name=""/>
            <p:cNvGrpSpPr/>
            <p:nvPr/>
          </p:nvGrpSpPr>
          <p:grpSpPr>
            <a:xfrm>
              <a:off x="3505320" y="2666880"/>
              <a:ext cx="5257800" cy="3156840"/>
              <a:chOff x="3505320" y="2666880"/>
              <a:chExt cx="5257800" cy="3156840"/>
            </a:xfrm>
          </p:grpSpPr>
          <p:sp>
            <p:nvSpPr>
              <p:cNvPr id="88" name=""/>
              <p:cNvSpPr/>
              <p:nvPr/>
            </p:nvSpPr>
            <p:spPr>
              <a:xfrm>
                <a:off x="3505320" y="3886200"/>
                <a:ext cx="1828800" cy="762120"/>
              </a:xfrm>
              <a:prstGeom prst="rect">
                <a:avLst/>
              </a:prstGeom>
              <a:gradFill rotWithShape="0">
                <a:gsLst>
                  <a:gs pos="0">
                    <a:srgbClr val="00ccff"/>
                  </a:gs>
                  <a:gs pos="100000">
                    <a:srgbClr val="00a6d0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E-governmen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center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962520" y="5486400"/>
                <a:ext cx="19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Private  Gateway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81480" y="3429000"/>
                <a:ext cx="381240" cy="228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63000" y="2666880"/>
                <a:ext cx="1652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Authentication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and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</a:rPr>
                  <a:t>Security check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5334120" y="3276720"/>
                <a:ext cx="3429000" cy="2470680"/>
                <a:chOff x="5334120" y="3276720"/>
                <a:chExt cx="3429000" cy="24706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334120" y="4267080"/>
                  <a:ext cx="533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lgDashDot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638680" y="3276720"/>
                  <a:ext cx="0" cy="213336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562720" y="3276720"/>
                  <a:ext cx="0" cy="213336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" name=""/>
                <p:cNvGrpSpPr/>
                <p:nvPr/>
              </p:nvGrpSpPr>
              <p:grpSpPr>
                <a:xfrm>
                  <a:off x="5943600" y="3352680"/>
                  <a:ext cx="2819520" cy="2394720"/>
                  <a:chOff x="5943600" y="3352680"/>
                  <a:chExt cx="2819520" cy="239472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>
                    <a:off x="5943600" y="3352680"/>
                    <a:ext cx="2666880" cy="190512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PlaceHolder 2"/>
                  <p:cNvSpPr>
                    <a:spLocks noGrp="1"/>
                  </p:cNvSpPr>
                  <p:nvPr>
                    <p:ph/>
                  </p:nvPr>
                </p:nvSpPr>
                <p:spPr>
                  <a:xfrm>
                    <a:off x="6629040" y="3505320"/>
                    <a:ext cx="121932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b2df"/>
                      </a:gs>
                    </a:gsLst>
                    <a:lin ang="5400000"/>
                  </a:gradFill>
                  <a:ln cap="sq" w="12600">
                    <a:solidFill>
                      <a:srgbClr val="ffffff"/>
                    </a:solidFill>
                    <a:miter/>
                  </a:ln>
                </p:spPr>
                <p:txBody>
                  <a:bodyPr anchor="t">
                    <a:normAutofit/>
                  </a:bodyPr>
                  <a:p>
                    <a:pPr marL="343080" indent="0" algn="ctr">
                      <a:spcBef>
                        <a:spcPts val="451"/>
                      </a:spcBef>
                      <a:buNone/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r-Latn-C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ency #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238880" y="3962520"/>
                    <a:ext cx="121932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b2df"/>
                      </a:gs>
                    </a:gsLst>
                    <a:lin ang="5400000"/>
                  </a:gra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marL="343080" indent="-343080" algn="ctr"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r-Latn-C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ency #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629400" y="4648320"/>
                    <a:ext cx="1295280" cy="380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ccff"/>
                      </a:gs>
                      <a:gs pos="100000">
                        <a:srgbClr val="00b2df"/>
                      </a:gs>
                    </a:gsLst>
                    <a:lin ang="5400000"/>
                  </a:gradFill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marL="343080" indent="-343080" algn="ctr"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r-Latn-C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ency #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81680" y="5410080"/>
                    <a:ext cx="1981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r-Latn-C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Service Delivery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859080" y="4267080"/>
                    <a:ext cx="372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...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EF17-2996-4F6F-91DD-823BDFC3F9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55760" y="54100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971720" y="5460840"/>
            <a:ext cx="4064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smina Pilipović, jasminap@beotel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Miodrag Ivković, misa@mnt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Dragan Domaz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. Dr. Veljko Milutinović, vm@etf.bg.ac.y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168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9720" y="1644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government in the use of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Governm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tself (communication, services, informa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mploye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advertising, education, instruct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Business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supplying, information, servi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Citize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nline services, digital democrac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8E13-8766-4615-ABC9-1FC544904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11:48:04Z</dcterms:created>
  <dc:creator>Jasmina</dc:creator>
  <dc:description/>
  <dc:language>en-US</dc:language>
  <cp:lastModifiedBy>Jasmina</cp:lastModifiedBy>
  <dcterms:modified xsi:type="dcterms:W3CDTF">2002-01-18T10:30:21Z</dcterms:modified>
  <cp:revision>124</cp:revision>
  <dc:subject/>
  <dc:title>Electronic Business on the Internet - Tutorial -</dc:title>
</cp:coreProperties>
</file>