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3DDA-1927-4FCF-8EBC-EA4F9BB36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2CF-9167-464A-8E47-7077D52D4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2C2E-BD32-45AA-9F8F-AE117EAA9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5E4-8BFD-4288-AB0D-2CFE648AC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19C-9F9B-457C-A5BC-758FA6A3C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007-F16A-4DA2-8F48-599CE9934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8CFF-295F-4263-9034-DC198BCDF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EA61-E258-492C-B794-2BFE65357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AA65-5B1A-4947-B534-98D82551A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66D-1E0E-42AF-842E-FC0CBEA9B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04E-B8A4-436A-829E-5CBA11258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FF0C-B51E-42B7-8FDB-DBADF606D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16B-9730-4C09-BFBC-12AD138A5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D82A-D879-4F47-8D08-D0322A19C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2B9A-8B6D-49A4-9F4E-8AEE45B9D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04A9-EEED-41F5-86EF-5908FF9C4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9F2-DCA1-4907-A055-3CBEB4317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A29-121D-4B1D-B558-B0D9B24C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6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B38-7F38-4A7C-8D87-F7B00306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B9-7FBB-46F8-A766-143C85A4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5AB-17D3-48E3-B61A-2EFCFBC4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E7BE-9CFC-40E0-BABA-8890D4C8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94E-1EF4-4326-BB6D-443BA96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296-7617-4797-8EFB-071BE0AF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814-7DA2-47E0-B363-0FF2E4F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ED3-5E5B-4083-B975-3E63D9F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B940-2822-4775-AEC8-C26301D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28E-1903-42A2-906B-184DCF80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5E7-EB47-44D1-B7E7-0B98B42B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9C69-2305-4E8C-9DA2-1D6F286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189B-823F-459A-863D-E1B0305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96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059-4942-439C-AB6B-14427B2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D84F-8A52-4D9D-BD1C-35E0A854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96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B7C6-8322-4F85-B2FC-EA3D7BD6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3C4-8881-4643-9B58-1703B087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C08-404A-42F4-AA08-2856C58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774-566B-4E9C-9A0A-BDBA87D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891-4B38-4E96-9C89-CFAD08B2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743-E6D2-427A-B8B7-EFA3CE6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6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28B-0409-447B-8AD2-021EE76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6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3CB-79B2-414B-882C-0A53739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13E-3F1D-4C56-90C7-177DEB0A5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A874-EFD7-4E8F-9FCD-577295A97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4B1-DDAC-4416-BDDD-F48920C20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CA10-9963-4E60-910B-B1BEABCC7D01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852-D16C-4EAD-B267-0A4A4F5BF6A8}" type="slidenum">
              <a:rPr b="0" lang="zh-CN" sz="1400" spc="-1" strike="noStrike">
                <a:solidFill>
                  <a:srgbClr val="eeece1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7720" y="20570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0c0"/>
                </a:solidFill>
                <a:latin typeface="Calibri"/>
                <a:ea typeface="宋体"/>
              </a:rPr>
              <a:t>Introduction to Elastic MapReduc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sci E63 Big Data Analy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Zoran B. Djordje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ece1"/>
                </a:solidFill>
                <a:latin typeface="Tahoma"/>
                <a:ea typeface="宋体"/>
              </a:rPr>
              <a:t>@Zoran B. Djordjev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lect Create cluster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436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E2D-D7ED-4C9F-AE3C-A1EB11305368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uster Configuration, Hadoop version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31" name="Content Placeholder 1" descr=""/>
          <p:cNvPicPr/>
          <p:nvPr/>
        </p:nvPicPr>
        <p:blipFill>
          <a:blip r:embed="rId1"/>
          <a:stretch/>
        </p:blipFill>
        <p:spPr>
          <a:xfrm>
            <a:off x="789120" y="1066680"/>
            <a:ext cx="75657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142-BEED-4482-8695-B19CA2FBAF4F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nfigure Hardware, Add EC2 key pair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35" name="Content Placeholder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423280" cy="563256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416-EE05-419C-BCE8-64EF26FABA6C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tup Bootstrap Action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tstrap actions allow you to pass a reference to a script stored in Amazon S3. This script can contain configuration settings and arguments related to Hadoop or Elastic MapRedu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tstrap actions are run before Hadoop starts and before the node begins processing data. Actions are lik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ll software on the nod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ify the default Hadoop site configuratio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the way Java parameters use Hadoop daem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 can specify up to 16 bootstrap actions per job flow by providing multiple 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--bootstrap-a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parameters from the CLI or AP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E97-9CEC-43C3-BCB6-D4384FE29D69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eps, Select Sample App, a Pig program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C205-EDA9-42F4-9E6F-E5F12754CA6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use a demo application to illustrate process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ig progra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ste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ure and ad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lect script, S3 bucket for, input, output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913-AE20-4BBF-A5C7-DFE0720C1EA1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304920" y="4952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ript we are running is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-reports2.p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s  written in a special scripting language written specially for Hado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look at that language in fine detail during one of subsequent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step is configured hi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 clu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on the main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Content Placeholder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uster is Starting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96A-CFDA-4199-8352-9FBC44FCC59A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ontent Placeholder 2" descr=""/>
          <p:cNvPicPr/>
          <p:nvPr/>
        </p:nvPicPr>
        <p:blipFill>
          <a:blip r:embed="rId1"/>
          <a:stretch/>
        </p:blipFill>
        <p:spPr>
          <a:xfrm>
            <a:off x="484200" y="1066680"/>
            <a:ext cx="81756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uster is Running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0F55-93B1-4559-99CB-21B9341A07C8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a while cluster will change its state to Running and eventually to Wai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09480" y="1805040"/>
            <a:ext cx="8077320" cy="4541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276720" y="4611600"/>
            <a:ext cx="5648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here are 3 EC2 Instance, a Master and 2 Slave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54D-A023-4EBF-A983-538B195CD542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Job is Waiting, Steps are Completed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2127-884D-4E07-8CCC-26FDAECB8391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ontent Placeholder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  <a:ea typeface="ＭＳ Ｐゴシック"/>
              </a:rPr>
              <a:t>Getting Started with Hadoop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doop is not all that difficult to start working wi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example, you can download Hadoop from hadoop.apach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install locally, unzip and set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JAVA_H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ail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doop.apache.org/core/docs/current/quickstart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veral ways to write job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va AP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doop Streaming (for Python, Perl, R, Ruby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ipes API (C++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you want to do very sophisticated work and create special map/reduce procedures you have few options. You have learn one of Hadoop’s API-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3EA0-CE28-4EF8-9922-B3FC7F1E9AA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9560" y="192240"/>
            <a:ext cx="6172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esults in S3 Bucket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14A0-0ABE-4C2A-819A-F06430537B12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457200" y="5607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50 search terms from f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t-r-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old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p_50_search_terms_from_bing_goo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Content Placeholder 2" descr=""/>
          <p:cNvPicPr/>
          <p:nvPr/>
        </p:nvPicPr>
        <p:blipFill>
          <a:blip r:embed="rId1"/>
          <a:stretch/>
        </p:blipFill>
        <p:spPr>
          <a:xfrm>
            <a:off x="457200" y="2082960"/>
            <a:ext cx="5381640" cy="213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724200" cy="139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563400" y="4025880"/>
            <a:ext cx="542160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6229440" y="485640"/>
            <a:ext cx="29145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We can control Job Flow thru EMR Command Line </a:t>
            </a:r>
            <a:endParaRPr b="0" lang="en-US" sz="29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9907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and install Ruby 1.8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rubyforge.org/frs/?group_id=167&amp;release_id=284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installer-1.8.7-p398-rc2.ex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perha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Linux, do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$ sudo apt-get install r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astic-mapreduce-client.zi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://aws.amazon.com/developertools/22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Unzip in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:\AWS\elastic-mapreduce-r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:\AWS\elastic-mapreduce-ruby;C:\Ruby187\bin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o you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In the director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:\AWS\elastic-mapreduce-rub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create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dentials.js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and ad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access_id":   "&lt;insert your aws Access Key Id here&gt;"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rivate_key": "&lt;insert your aws Secret Access Key here&gt;"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keypair":     "&lt;insert path of your amazon ec2 Key Pair file&gt;"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log_uri":     "s3://name of a bucket in s3 to place logs from job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8600-A520-4EE6-8715-5E530F0D68F6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credentials.json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066680"/>
            <a:ext cx="85341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careful with the content of this file. It must be r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access_id": "AKGGGGHJT7WWWWFDTHJQ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private_key": "gUlaTrEwIrQBsyqh3w6253422cK+FlUeRtBWE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keypair": "e63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key-pair-file": "C:\AWS\hu\e63.pem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log_uri": "s3n://zoran-log/"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region": "us-east-1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When running EMR commands from the command prompt, you might have to go to the directory where this file resi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CBF-3F27-48A9-A693-9F6DA1A184E5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xamples of Command Line Usag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Listing Active Job Flows (MapReduce job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list --a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list --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create a job flow that requires manual term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create --aliv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To create a job flow that will run a mapper written in python, all one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create --stream --mapper  \ s3://elasticmapreduce/samples/wordcount/wordSplitter.py \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input s3n://elasticmapreduce/samples/wordcount/inpu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output s3://zoran01/python –-reducer aggreg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 job flow j-QUHVJI5FUZ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Bucket needs to be there but the output folder should not exist before the command is run. If the folder is present, you will get an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terminate all active job flow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list --active --termin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erminate a running job flo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by elastic-mapreduce --terminate --jobflow j-2WSXRVDHH08T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27E9-C6AC-4AFD-8A8F-83F5654E5330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4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Hadoop Streaming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520" y="7617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e just did relied on a special feature/utility called Hadoop Strea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than writing scripts for Hadoop in a special language or writing jobs in Java, which is Hadoop’s native language, you can write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outines in almost any language and use a utility called Hadoop Streaming to run th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 demonstrated Hadoop Streaming using a provided example in Pyth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same example could be run from the AWS EMR Cons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1B70-46D8-4A43-9CD6-7ED80437B4B4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dd S3 Permissions to all Authenticated User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60E4-F506-4BD1-9D59-4B681F435D5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280" y="990360"/>
            <a:ext cx="27432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click on your bucket and grant permissions to Authenticated users, Everyone 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Log Deliv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are a bit more generous than necess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352680" y="1004760"/>
            <a:ext cx="66024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Create new Cluster, Run Sample App, Word Count</a:t>
            </a:r>
            <a:endParaRPr b="0" lang="en-US" sz="29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226C-37E9-440E-8262-6BB611DC5BC1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615960" y="990720"/>
            <a:ext cx="822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Next we go to the Elastic Map Reduce service and create a new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ure sampl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nfigure sample app, select output, log Bucket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0EA-3DD7-4E96-8E89-7E11ED2A08F6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662040" y="9907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change the Output Location to our bucket. Just replace the bucket name, leave folders unchanged. Hit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2" descr=""/>
          <p:cNvPicPr/>
          <p:nvPr/>
        </p:nvPicPr>
        <p:blipFill>
          <a:blip r:embed="rId1"/>
          <a:stretch/>
        </p:blipFill>
        <p:spPr>
          <a:xfrm>
            <a:off x="1733400" y="2095560"/>
            <a:ext cx="5677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nfigure Instances, provide key pair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ine Step and hit Create clu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AA35-F399-4771-806A-5F1BF092228A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419040" y="1928880"/>
            <a:ext cx="8305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Once Job Flow is Waiting you are Don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the job flow moves to Waiting state you can go to your S3  buckets and examine the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download any of the files, like part-00000 and read the word count. Result is present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921-6D59-4848-B9C4-36E7F7625B95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447840" y="1905120"/>
            <a:ext cx="82483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410B-2DCD-4175-A858-2A70E085FE00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lastic MapReduc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azon Elastic MapReduce is a web service that utilizes a hosted Hadoop framework running on the web-scale infrastructure of Amazon Elastic Compute Cloud (Amazon EC2) and Amazon Simple Storage Service (Amazon S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mazon Elastic MapReduce, you can instantly provision as much or as little capacity as you like to perform data-intensive tasks for applications such as web indexing, data mining, log file analysis, machine learning, financial analysis, scientific simulation, and bioinformatics resear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d Count Output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220" name="Content Placeholder 5" descr=""/>
          <p:cNvPicPr/>
          <p:nvPr/>
        </p:nvPicPr>
        <p:blipFill>
          <a:blip r:embed="rId1"/>
          <a:stretch/>
        </p:blipFill>
        <p:spPr>
          <a:xfrm>
            <a:off x="1697040" y="1066680"/>
            <a:ext cx="5554800" cy="4953240"/>
          </a:xfrm>
          <a:prstGeom prst="rect">
            <a:avLst/>
          </a:prstGeom>
          <a:ln w="0">
            <a:noFill/>
          </a:ln>
        </p:spPr>
      </p:pic>
      <p:sp>
        <p:nvSpPr>
          <p:cNvPr id="2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BE90-535B-4EC9-9432-E1ED8BE8CCD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Select EC2 Service and Review State of Your Instance</a:t>
            </a:r>
            <a:endParaRPr b="0" lang="en-US" sz="29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EC2 Service first and then on the EC2 Dashboard, select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7982-CD5C-483F-B7A8-C4ACB1B7F51E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04840" y="1676520"/>
            <a:ext cx="8734320" cy="2495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1219320" y="4038480"/>
            <a:ext cx="7259400" cy="2476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447920" y="6095880"/>
            <a:ext cx="1752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SH to the Master Nod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user hado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sh -i e63.pem hadoop@ec2-54-221-152-76.compute-1.amazonaws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uthenticity of host 'ec2-54-221-152-76.compute-1.amazonaws.com (54.221.152.76)' can't be establish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SA key fingerprint is d2:70:f7:30:ac:ea:b2:bc:19:0e:5e:05:9b:7a:57:cf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 you sure you want to continue connecting (yes/no)? y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ning: Permanently added 'ec2-54-221-152-76.compute-1.amazonaws.com,54.221.152.76' (RSA) to the list of known ho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ux (none) 3.2.30-49.59.amzn1.x86_64 #1 SMP Wed Oct 3 19:54:33 UTC 2012 x86_6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 to Amazon Elastic MapReduce running Hadoop and Debian/Squeez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 is installed in /home/hadoop. Log files are in /mnt/var/log/hadoo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mnt/var/log/hadoop/steps for diagnosing step failu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Hadoop UI can be accessed via the following command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Tracker    lynx http://localhost:9100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Node      lynx http://localhost:910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ip-10-185-27-143:~$ pw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home/hado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ourier New"/>
              </a:rPr>
              <a:t>Please note. EMR Console might suggest that you should connect as root, what might be wro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C22-320D-45B6-A3AA-FA76E583488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On EC2 Dashboard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235" name="Content Placeholder 5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527832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14E-5B03-4E54-8621-6B4D4D3C82C9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curity Group: ElasticMapReduce-master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 us open ports 9100 and 91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BB7-8956-4EC2-9EA2-24A57286D305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http://ec2-54-221-152-76.compute-1.amazonaws.com:9101/dfshealth.jsp</a:t>
            </a:r>
            <a:endParaRPr b="0" lang="en-US" sz="20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244" name="Content Placeholder 5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2448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946-4A2D-4368-8475-7198989F7052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Hadoop Environment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lso an executable which actually controls your cluster. You can for example,  run the following Linux comm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pw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home/hado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which hado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home/hadoop/bin/hado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which j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usr/bin/j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CHES.txt              hadoop-core-1.0.3.jar       hadoop-tools.j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n                      hadoop-core.jar               l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                     hadoop-examples-1.0.3.jar     lib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ib                  hadoop-examples.jar           libexe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tc                      hadoop-minicluster-1.0.3.jar  na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-ant-1.0.3.jar     hadoop-test-1.0.3.jar         sb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7E2-225E-41DB-A031-089C4AA6C584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Distributed File System, dfs command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doop has access not only to the local, Linux, file system, it also has its own distributed file system (HDFS Hadoop Distributed File Syst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access HDFS through Hadoop distributes file system shell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 hadoop  df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you will get a long list of options. We will present those options on the next slide. Some of those resemble Unix (Linux) commands. Some are differ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use those commands to create directories in the HDFS, copy files between HDFS and the local file system, Internet and AWS S3 buck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you always prefix it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F349-63BC-4140-9294-B660AD53F9C8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le system shell </a:t>
            </a:r>
            <a:r>
              <a:rPr b="0" lang="en-US" sz="3200" spc="-1" strike="noStrike">
                <a:solidFill>
                  <a:srgbClr val="0070c0"/>
                </a:solidFill>
                <a:latin typeface="Courier New"/>
                <a:ea typeface="Courier New"/>
              </a:rPr>
              <a:t>df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hadoop df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age: java FsShe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ls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lsr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du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dus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ount[-q]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mv &lt;src&gt; &lt;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p &lt;src&gt; &lt;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rm [-skipTrash]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rmr [-skipTrash]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expunge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put &lt;localsrc&gt; ... &lt;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opyFromLocal &lt;localsrc&gt; ... &lt;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moveFromLocal &lt;localsrc&gt; ... &lt;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get [-ignoreCrc] [-crc] &lt;src&gt; &lt;local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getmerge &lt;src&gt; &lt;localdst&gt; [addnl]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at &lt;src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text &lt;src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opyToLocal [-ignoreCrc] [-crc] &lt;src&gt; &lt;local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moveToLocal [-crc] &lt;src&gt; &lt;local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D3EE-951C-46B0-BA1C-5CBE298EFBAE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le system shell </a:t>
            </a:r>
            <a:r>
              <a:rPr b="0" lang="en-US" sz="3200" spc="-1" strike="noStrike">
                <a:solidFill>
                  <a:srgbClr val="0070c0"/>
                </a:solidFill>
                <a:latin typeface="Courier New"/>
                <a:ea typeface="Courier New"/>
              </a:rPr>
              <a:t>df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moveToLocal [-crc] &lt;src&gt; &lt;localdst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mkdir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setrep [-R] [-w] &lt;rep&gt; &lt;path/file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touchz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test -[ezd]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stat [format] &lt;path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tail [-f] &lt;file&gt;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hmod [-R] &lt;MODE[,MODE]... | OCTALMODE&gt; PATH...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hown [-R] [OWNER][:[GROUP]] PATH...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chgrp [-R] GROUP PATH...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-help [cmd]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ic options supported 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conf &lt;configuration file&gt;     specify an application configuration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D &lt;property=value&gt;            use value for given prope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fs &lt;local|namenode:port&gt;      specify a nameno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jt &lt;local|jobtracker:port&gt;    specify a job track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files &lt;comma separated list of files&gt;    specify comma separated files to be copied to the map reduce clus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libjars &lt;comma separated list of jars&gt;    specify comma separated jar files to include in the classp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C9CC-00AC-4AE6-9556-D9154CF58368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Benefits of Elastic MapReduc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lets you focus on crunching or analyzing your data without having to worry about time-consuming set-up, management or tuning of Hadoop clusters or the harvdware capacity upon which they s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automatically sub-divides the data in a job flow into smaller chunks so that data can be processed (the “map” function) in parallel, and eventually recombining the processed data into the final solution (the “reduce” functio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S3 serves as the source for the data being analyzed, and as the output destination for the end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529-FCD1-47C1-8AFC-BEE52BB4F28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le system shell </a:t>
            </a:r>
            <a:r>
              <a:rPr b="0" lang="en-US" sz="3200" spc="-1" strike="noStrike">
                <a:solidFill>
                  <a:srgbClr val="0070c0"/>
                </a:solidFill>
                <a:latin typeface="Courier New"/>
                <a:ea typeface="Courier New"/>
              </a:rPr>
              <a:t>df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libjars &lt;comma separated list of jars&gt;    specify comma separated jar files to include in the classp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archives &lt;comma separated list of archives&gt;    specify comma separated archives to be unarchived on the compute mach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eneral command line syntax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/hadoop command [genericOptions] [commandOptions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For example, we can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to fetch the Python script used in our job f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hadoop dfs –copyToLocal\ s3://elasticmapreduce/samples/wordcount/wordSplitter.p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he last dot (.) on the line is significant. This is “this” direct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Notice that options follow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shell always start with a d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Examine local directory and see the local copy of wordSplitter.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ls -la wordSplitter.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hadoop hadoop 294 Feb 23 19:50 wordSplitter.p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4F42-20A3-4883-909B-01E6B0A2939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ordSplitter.py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We c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the Python script or transfer it to our local Windows or Mac terminal and discover that it reads li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bin/pyth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ain(argv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 = re.compile("[a-zA-Z][a-zA-Z0-9]*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 in sys.std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word in pattern.findall(line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LongValueSum:" + word.lower() + "\t" + "1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__name__ == "__main__"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(sys.arg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934-B47E-46B1-869D-F16BACFE9CD8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nput Data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ould similarly use good services of Hadoop’s distributed file system she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first examine the input folder and then fetch the input data we used in the job f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doop@domU-12-31-39-00-69-A7:~$ hadoop dfs -ls s3://elasticmapreduce/samples/wordcount/inp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nd 12 i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2392524 2009-04-02 02:55 /samples/wordcount/input/00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2396618 2009-04-02 02:55 /samples/wordcount/input/0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1593915 2009-04-02 02:55 /samples/wordcount/input/0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1720885 2009-04-02 02:55 /samples/wordcount/input/0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2216895 2009-04-02 02:55 /samples/wordcount/input/0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1906322 2009-04-02 02:55 /samples/wordcount/input/0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1930660 2009-04-02 02:55 /samples/wordcount/input/0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1913444 2009-04-02 02:55 /samples/wordcount/input/0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2707527 2009-04-02 02:55 /samples/wordcount/input/0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 327050 2009-04-02 02:55 /samples/wordcount/input/0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      8 2009-04-02 02:55 /samples/wordcount/input/0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rwxrwxrwx   1          8 2009-04-02 02:55 /samples/wordcount/input/0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81D-20A5-476E-A889-F7A0F3A26601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py input file 0001 to Local File System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hadoop dfs -copyToLocal s3://elasticmapreduce/samples/wordcount/input/0001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/02/23 20:06:21 INFO s3native.NativeS3FileSystem: Opening 's3://elasticmapreduce/samples/wordcount/input/0001'  for rea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ls -la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rw-r--r-- 1 hadoop hadoop 2392524 Feb 23 20:06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Unix (Linux) utilities tail and head will tell us what are the lines at the end and beginning of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F1F0-B7D5-4779-B646-0E99376A93C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urier New"/>
                <a:ea typeface="Courier New"/>
              </a:rPr>
              <a:t>tail 0001, head 0001</a:t>
            </a:r>
            <a:endParaRPr b="0" lang="en-US" sz="2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tail 0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es age 16-49: 7,322,96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males age 16-49: 6,859,064 (2008 es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power fit for military servi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es age 16-49: 4,886,1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males age 16-49: 5,525,764 (2009 es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power reaching militarily significant age annuall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e: 365,56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male: 352,643 (2009 es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itary expenditur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6% of GDP (200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@domU-12-31-39-00-69-A7:~$ head 0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A -- The World Factbook -- Country L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ld Factbook H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orld Factbo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nbs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ry Listing . .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376-2B9B-40F4-AE47-7A2D9F2501DA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erminate all Clusters or all Instance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0880" y="60912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we had enough for the day, we should terminate all instances, so that we stop incurring additional char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ll instances, and un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inate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Yes Termin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A2F-9BC5-4FB5-84CE-8D3C99DDD63D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2133720" y="2276640"/>
            <a:ext cx="6773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un Hadoop on Your Own Machine or Cluster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cally one wants to install a recent release of Hadoop on a recent release of a popular Linux 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0 or $60 for the academic license for a Red Hat OS is not bad. Major manufacturers, like IBM, like Red 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ora is an open source, free version of Red Hat OS that is ahead of  commercial Red Hat and serves as a development platform for what will eventually be packaged as Red Ha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OS 6.2 is a “repackaged” Red Hat 6.2 for non-commercial use and you are free to go with it. Cloudera is publishing its downloadable VMs on Cent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 another option is Ubuntu, which is also fre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SE is yet another popular Linux, but is not fre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acle offers Oracle Linux, which is fre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CCC-301A-4F1B-AE37-572D666B3E8A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Hadoop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doop could be fetch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adoop.apach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6408-4580-41A6-99C2-961575112C8D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oudera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invented Hadoop are mostly at Cloude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want the latest and the best, we go there, presuma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9398-097D-488D-8209-E84E1314B4C5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816120" y="1600200"/>
            <a:ext cx="7696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oudera CDH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udera offers CDH (Cloudera Distribution Hadoop including Apache Hadoop). The latest, non-beta, appears to be CDH 4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ccp.cloudera.com/display/SUPPORT/CDH+Down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A07-9EE6-436B-87F0-E047B81F1C0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476280" y="2297160"/>
            <a:ext cx="7677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ad documentation first. We always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a 32 bit machine, you better do. You might be in trou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Cloudera tools are available for 64 bit machines on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Elastic MapReduce Functionality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your data processing applic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enables job flows to be developed in SQL-like languages, such as Hive and Pi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esired, more sophisticated applications can be run in: Java, Ruby, Perl, Python, PHP, R, or C++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load your data and your processing application into Amazon S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 in to the AWS Management Console to start an Amazon Elastic MapReduce “job flow.” Alternatively you can start a job flow by specifying the same information mentioned above via our Command Line Tools or AP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the progress of your job flow(s) directly from the AWS Management Console, Command Line Tools or API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837-BA72-4B85-9050-C090E9B8320C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loudera CDH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udera offers CDH (Cloudera Distribution Hadoop including Apache Hadoop). The latest appears to be CDH 4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ccp.cloudera.com/display/SUPPORT/CDH+Down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D9A-3D87-4B79-AD9D-2041891D883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76280" y="2297160"/>
            <a:ext cx="304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ad documentation first. We always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a 32 bit machine, you better do. You might be in trou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Cloudera tools are available for 64 bit machines on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"/>
          <p:cNvPicPr/>
          <p:nvPr/>
        </p:nvPicPr>
        <p:blipFill>
          <a:blip r:embed="rId1"/>
          <a:stretch/>
        </p:blipFill>
        <p:spPr>
          <a:xfrm>
            <a:off x="25560" y="1066680"/>
            <a:ext cx="9144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DH Requirements and Supported Version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ccp.cloudera.com/display/CDH4DOC/CDH4+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F641-8BB3-4FAF-AE34-F4D244FD5C07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32 vs 64 bit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8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r laptop is 32 bit and you want to run a local Hadoop installation with a 32 bit Hadoop on a 32 bit OS, the only choice is a Red Hat 6.2 or CentOS 6.2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r machine is running CentOS 6.2, you just install Hadoo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r machine is running 32 bit Windows you have to create a 32 bit Virtual Machine and install 32 bit CentOS on that V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MWare Workstation 7 supports 32 bit 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r machine is new, it is most probably a 64 bit mach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 64 bit VMWare Workstation or VMWare Fusion you can crate and run a 64bit VM and subsequently are free to work with any OS  that supports CHD4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00F-7BB5-41B2-8FFA-D9B313FB2D4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Download VM for now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udera VM is a 64-bit VM, and requires a 64-bit host OS and a virtualization product that can support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4-bit guest 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VM uses 4 GB of total RAM. The total system memory required varies depending on the size of your data set and on the other processes that are run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mo VM file is in a 7-zip format and is approximately 2 GB. Feel free to mirror internally or externally to minimize bandwidth usa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use the VMware VM, you must use a player compatible with WorkStation 8.x or higher: Player 4.x or higher, ESXi 5.x or higher, or Fusion 4.x or higher. Older versions of WorkStation can be used to create a new VM using the same virtual disk (VMDK file), but some features in VMware Tools won't be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0464-5DF2-4DAC-B10C-D70A5A3075F6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ervice Highlight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enables you to use as many or as few compute instances running Hadoop as you want. You can commission one, hundreds, or even thousands of instan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need to worry about setting up, running, or tuning the performance of Hadoop clus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is built on Amazon’s highly reliable infrastructure, and has tuned Hadoop’s performance specifically for Amazon’s infrastructur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azon Elastic MapReduce is designed to integrate easily with other AWS services such as Amazon S3 and EC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e and inexpens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CFC7-AD51-41D5-B894-DFD9318BC09A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0c0"/>
                </a:solidFill>
                <a:latin typeface="Calibri"/>
              </a:rPr>
              <a:t>Pricing is coming down</a:t>
            </a:r>
            <a:endParaRPr b="0" lang="en-US" sz="29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5C20-D730-4856-B21E-2147B13C591B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R prices are paid atop of instance prices. These prices are approxim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azon EC2, Amazon S3 and Amazon SimpleDB charges are billed separat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1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Before you start, Create two S3 Buckets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need one bucket for normal results of our Map Reduce programs and one bucket for log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cket name must contain only lowercase letters, numbers, periods (.), and dashes (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3030-EA09-441A-9F7D-0EEACE27188D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88960" y="2895480"/>
            <a:ext cx="79660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WS Services, Select Elastic Map Reduce</a:t>
            </a:r>
            <a:endParaRPr b="0" lang="en-US" sz="32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762120" y="853920"/>
            <a:ext cx="7391160" cy="565956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@Zoran B. Djordjev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8F9-30C3-40F6-812E-0968087CBEC3}" type="slidenum">
              <a:rPr b="1" lang="en-US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zdjordje</dc:creator>
  <dc:description/>
  <dc:language>en-US</dc:language>
  <cp:lastModifiedBy>zdjordje</cp:lastModifiedBy>
  <cp:lastPrinted>2014-02-21T22:09:17Z</cp:lastPrinted>
  <dcterms:modified xsi:type="dcterms:W3CDTF">2014-02-24T19:23:04Z</dcterms:modified>
  <cp:revision>400</cp:revision>
  <dc:subject/>
  <dc:title>Slide 1</dc:title>
</cp:coreProperties>
</file>